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2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5DDE-E5B7-4B80-8AB0-CC0A22E5D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5D19-183B-406B-948D-D423F33E0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FE24-06C7-4E31-9745-80E201CD1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035D-8ECB-448C-BD5E-91A414AC5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4445-76DF-446C-8C8D-8F377380C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72024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53200" y="155736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8728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72024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53200" y="4151880"/>
            <a:ext cx="24120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6920" y="223920"/>
            <a:ext cx="74883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026320" y="415188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6320" y="1557360"/>
            <a:ext cx="36558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87280" y="4151880"/>
            <a:ext cx="749160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41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39880" cy="865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5"/>
          <p:cNvSpPr/>
          <p:nvPr/>
        </p:nvSpPr>
        <p:spPr>
          <a:xfrm>
            <a:off x="1042920" y="0"/>
            <a:ext cx="8101080" cy="6858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-9360" y="3084480"/>
            <a:ext cx="2068200" cy="3786120"/>
            <a:chOff x="-9360" y="3084480"/>
            <a:chExt cx="2068200" cy="3786120"/>
          </a:xfrm>
        </p:grpSpPr>
        <p:sp>
          <p:nvSpPr>
            <p:cNvPr id="4" name="Freeform 8"/>
            <p:cNvSpPr/>
            <p:nvPr/>
          </p:nvSpPr>
          <p:spPr>
            <a:xfrm>
              <a:off x="-7920" y="4560840"/>
              <a:ext cx="1851120" cy="1604880"/>
            </a:xfrm>
            <a:custGeom>
              <a:avLst/>
              <a:gdLst>
                <a:gd name="textAreaLeft" fmla="*/ 0 w 1851120"/>
                <a:gd name="textAreaRight" fmla="*/ 1851480 w 1851120"/>
                <a:gd name="textAreaTop" fmla="*/ 0 h 1604880"/>
                <a:gd name="textAreaBottom" fmla="*/ 1605240 h 1604880"/>
              </a:gdLst>
              <a:ahLst/>
              <a:rect l="textAreaLeft" t="textAreaTop" r="textAreaRight" b="textAreaBottom"/>
              <a:pathLst>
                <a:path w="1166" h="1011">
                  <a:moveTo>
                    <a:pt x="0" y="1011"/>
                  </a:moveTo>
                  <a:lnTo>
                    <a:pt x="1165" y="12"/>
                  </a:lnTo>
                  <a:lnTo>
                    <a:pt x="1166" y="0"/>
                  </a:lnTo>
                  <a:lnTo>
                    <a:pt x="2" y="993"/>
                  </a:lnTo>
                  <a:lnTo>
                    <a:pt x="0" y="101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9"/>
            <p:cNvSpPr/>
            <p:nvPr/>
          </p:nvSpPr>
          <p:spPr>
            <a:xfrm>
              <a:off x="-7920" y="4200480"/>
              <a:ext cx="1860480" cy="1600200"/>
            </a:xfrm>
            <a:custGeom>
              <a:avLst/>
              <a:gdLst>
                <a:gd name="textAreaLeft" fmla="*/ 0 w 1860480"/>
                <a:gd name="textAreaRight" fmla="*/ 1860840 w 1860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172" h="1008">
                  <a:moveTo>
                    <a:pt x="0" y="1008"/>
                  </a:moveTo>
                  <a:lnTo>
                    <a:pt x="1165" y="15"/>
                  </a:lnTo>
                  <a:lnTo>
                    <a:pt x="1172" y="0"/>
                  </a:lnTo>
                  <a:lnTo>
                    <a:pt x="0" y="992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-7920" y="3965400"/>
              <a:ext cx="1706400" cy="1473480"/>
            </a:xfrm>
            <a:custGeom>
              <a:avLst/>
              <a:gdLst>
                <a:gd name="textAreaLeft" fmla="*/ 0 w 1706400"/>
                <a:gd name="textAreaRight" fmla="*/ 1706760 w 1706400"/>
                <a:gd name="textAreaTop" fmla="*/ 0 h 1473480"/>
                <a:gd name="textAreaBottom" fmla="*/ 1473840 h 1473480"/>
              </a:gdLst>
              <a:ahLst/>
              <a:rect l="textAreaLeft" t="textAreaTop" r="textAreaRight" b="textAreaBottom"/>
              <a:pathLst>
                <a:path w="1075" h="928">
                  <a:moveTo>
                    <a:pt x="0" y="928"/>
                  </a:moveTo>
                  <a:lnTo>
                    <a:pt x="1075" y="3"/>
                  </a:lnTo>
                  <a:lnTo>
                    <a:pt x="1070" y="0"/>
                  </a:lnTo>
                  <a:lnTo>
                    <a:pt x="0" y="913"/>
                  </a:lnTo>
                  <a:lnTo>
                    <a:pt x="0" y="92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1"/>
            <p:cNvSpPr/>
            <p:nvPr/>
          </p:nvSpPr>
          <p:spPr>
            <a:xfrm>
              <a:off x="-4680" y="4381560"/>
              <a:ext cx="1842840" cy="1600200"/>
            </a:xfrm>
            <a:custGeom>
              <a:avLst/>
              <a:gdLst>
                <a:gd name="textAreaLeft" fmla="*/ 0 w 1842840"/>
                <a:gd name="textAreaRight" fmla="*/ 1843200 w 184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161" h="1008">
                  <a:moveTo>
                    <a:pt x="0" y="1008"/>
                  </a:moveTo>
                  <a:lnTo>
                    <a:pt x="1161" y="8"/>
                  </a:lnTo>
                  <a:lnTo>
                    <a:pt x="1160" y="0"/>
                  </a:lnTo>
                  <a:lnTo>
                    <a:pt x="0" y="995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-7920" y="3665520"/>
              <a:ext cx="1846080" cy="1596960"/>
            </a:xfrm>
            <a:custGeom>
              <a:avLst/>
              <a:gdLst>
                <a:gd name="textAreaLeft" fmla="*/ 0 w 1846080"/>
                <a:gd name="textAreaRight" fmla="*/ 1846440 w 184608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1163" h="1006">
                  <a:moveTo>
                    <a:pt x="0" y="1006"/>
                  </a:moveTo>
                  <a:lnTo>
                    <a:pt x="1163" y="4"/>
                  </a:lnTo>
                  <a:lnTo>
                    <a:pt x="1159" y="0"/>
                  </a:lnTo>
                  <a:lnTo>
                    <a:pt x="2" y="985"/>
                  </a:lnTo>
                  <a:lnTo>
                    <a:pt x="0" y="1006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3"/>
            <p:cNvSpPr/>
            <p:nvPr/>
          </p:nvSpPr>
          <p:spPr>
            <a:xfrm>
              <a:off x="-7920" y="3490920"/>
              <a:ext cx="1836720" cy="1589040"/>
            </a:xfrm>
            <a:custGeom>
              <a:avLst/>
              <a:gdLst>
                <a:gd name="textAreaLeft" fmla="*/ 0 w 1836720"/>
                <a:gd name="textAreaRight" fmla="*/ 1837080 w 1836720"/>
                <a:gd name="textAreaTop" fmla="*/ 0 h 1589040"/>
                <a:gd name="textAreaBottom" fmla="*/ 1589400 h 1589040"/>
              </a:gdLst>
              <a:ahLst/>
              <a:rect l="textAreaLeft" t="textAreaTop" r="textAreaRight" b="textAreaBottom"/>
              <a:pathLst>
                <a:path w="1157" h="1001">
                  <a:moveTo>
                    <a:pt x="0" y="1001"/>
                  </a:moveTo>
                  <a:lnTo>
                    <a:pt x="1157" y="8"/>
                  </a:lnTo>
                  <a:lnTo>
                    <a:pt x="1157" y="0"/>
                  </a:lnTo>
                  <a:lnTo>
                    <a:pt x="2" y="983"/>
                  </a:lnTo>
                  <a:lnTo>
                    <a:pt x="0" y="100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4"/>
            <p:cNvSpPr/>
            <p:nvPr/>
          </p:nvSpPr>
          <p:spPr>
            <a:xfrm>
              <a:off x="-4680" y="3503520"/>
              <a:ext cx="1404720" cy="1211400"/>
            </a:xfrm>
            <a:custGeom>
              <a:avLst/>
              <a:gdLst>
                <a:gd name="textAreaLeft" fmla="*/ 0 w 1404720"/>
                <a:gd name="textAreaRight" fmla="*/ 1405080 w 140472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885" h="763">
                  <a:moveTo>
                    <a:pt x="0" y="763"/>
                  </a:moveTo>
                  <a:lnTo>
                    <a:pt x="885" y="4"/>
                  </a:lnTo>
                  <a:lnTo>
                    <a:pt x="878" y="0"/>
                  </a:lnTo>
                  <a:lnTo>
                    <a:pt x="0" y="747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5"/>
            <p:cNvSpPr/>
            <p:nvPr/>
          </p:nvSpPr>
          <p:spPr>
            <a:xfrm>
              <a:off x="-7920" y="3193920"/>
              <a:ext cx="1541520" cy="134316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1343160"/>
                <a:gd name="textAreaBottom" fmla="*/ 1343520 h 1343160"/>
              </a:gdLst>
              <a:ahLst/>
              <a:rect l="textAreaLeft" t="textAreaTop" r="textAreaRight" b="textAreaBottom"/>
              <a:pathLst>
                <a:path w="971" h="846">
                  <a:moveTo>
                    <a:pt x="0" y="846"/>
                  </a:moveTo>
                  <a:lnTo>
                    <a:pt x="971" y="3"/>
                  </a:lnTo>
                  <a:lnTo>
                    <a:pt x="968" y="0"/>
                  </a:lnTo>
                  <a:lnTo>
                    <a:pt x="0" y="831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6"/>
            <p:cNvSpPr/>
            <p:nvPr/>
          </p:nvSpPr>
          <p:spPr>
            <a:xfrm>
              <a:off x="-4680" y="3084480"/>
              <a:ext cx="1241280" cy="1087560"/>
            </a:xfrm>
            <a:custGeom>
              <a:avLst/>
              <a:gdLst>
                <a:gd name="textAreaLeft" fmla="*/ 0 w 1241280"/>
                <a:gd name="textAreaRight" fmla="*/ 1241640 w 1241280"/>
                <a:gd name="textAreaTop" fmla="*/ 0 h 1087560"/>
                <a:gd name="textAreaBottom" fmla="*/ 1087920 h 1087560"/>
              </a:gdLst>
              <a:ahLst/>
              <a:rect l="textAreaLeft" t="textAreaTop" r="textAreaRight" b="textAreaBottom"/>
              <a:pathLst>
                <a:path w="782" h="685">
                  <a:moveTo>
                    <a:pt x="0" y="685"/>
                  </a:moveTo>
                  <a:lnTo>
                    <a:pt x="782" y="7"/>
                  </a:lnTo>
                  <a:lnTo>
                    <a:pt x="777" y="0"/>
                  </a:lnTo>
                  <a:lnTo>
                    <a:pt x="0" y="670"/>
                  </a:lnTo>
                  <a:lnTo>
                    <a:pt x="0" y="68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7"/>
            <p:cNvSpPr/>
            <p:nvPr/>
          </p:nvSpPr>
          <p:spPr>
            <a:xfrm>
              <a:off x="-4680" y="3271680"/>
              <a:ext cx="804960" cy="71280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507" h="449">
                  <a:moveTo>
                    <a:pt x="0" y="449"/>
                  </a:moveTo>
                  <a:lnTo>
                    <a:pt x="507" y="6"/>
                  </a:lnTo>
                  <a:lnTo>
                    <a:pt x="504" y="0"/>
                  </a:lnTo>
                  <a:lnTo>
                    <a:pt x="0" y="435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8"/>
            <p:cNvSpPr/>
            <p:nvPr/>
          </p:nvSpPr>
          <p:spPr>
            <a:xfrm>
              <a:off x="-7920" y="4929120"/>
              <a:ext cx="1854360" cy="15955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595520"/>
                <a:gd name="textAreaBottom" fmla="*/ 1595880 h 1595520"/>
              </a:gdLst>
              <a:ahLst/>
              <a:rect l="textAreaLeft" t="textAreaTop" r="textAreaRight" b="textAreaBottom"/>
              <a:pathLst>
                <a:path w="1168" h="1005">
                  <a:moveTo>
                    <a:pt x="0" y="1005"/>
                  </a:moveTo>
                  <a:lnTo>
                    <a:pt x="1168" y="12"/>
                  </a:lnTo>
                  <a:lnTo>
                    <a:pt x="1166" y="0"/>
                  </a:lnTo>
                  <a:lnTo>
                    <a:pt x="2" y="989"/>
                  </a:lnTo>
                  <a:lnTo>
                    <a:pt x="0" y="100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9"/>
            <p:cNvSpPr/>
            <p:nvPr/>
          </p:nvSpPr>
          <p:spPr>
            <a:xfrm>
              <a:off x="-7920" y="5108400"/>
              <a:ext cx="1849320" cy="1611360"/>
            </a:xfrm>
            <a:custGeom>
              <a:avLst/>
              <a:gdLst>
                <a:gd name="textAreaLeft" fmla="*/ 0 w 1849320"/>
                <a:gd name="textAreaRight" fmla="*/ 1849680 w 1849320"/>
                <a:gd name="textAreaTop" fmla="*/ 0 h 1611360"/>
                <a:gd name="textAreaBottom" fmla="*/ 1611720 h 1611360"/>
              </a:gdLst>
              <a:ahLst/>
              <a:rect l="textAreaLeft" t="textAreaTop" r="textAreaRight" b="textAreaBottom"/>
              <a:pathLst>
                <a:path w="1165" h="1015">
                  <a:moveTo>
                    <a:pt x="0" y="1015"/>
                  </a:moveTo>
                  <a:lnTo>
                    <a:pt x="1165" y="12"/>
                  </a:lnTo>
                  <a:lnTo>
                    <a:pt x="1165" y="0"/>
                  </a:lnTo>
                  <a:lnTo>
                    <a:pt x="2" y="997"/>
                  </a:lnTo>
                  <a:lnTo>
                    <a:pt x="0" y="1015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0"/>
            <p:cNvSpPr/>
            <p:nvPr/>
          </p:nvSpPr>
          <p:spPr>
            <a:xfrm>
              <a:off x="3240" y="5305320"/>
              <a:ext cx="1833480" cy="156204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0 h 1562040"/>
                <a:gd name="textAreaBottom" fmla="*/ 1562400 h 1562040"/>
              </a:gdLst>
              <a:ahLst/>
              <a:rect l="textAreaLeft" t="textAreaTop" r="textAreaRight" b="textAreaBottom"/>
              <a:pathLst>
                <a:path w="1155" h="984">
                  <a:moveTo>
                    <a:pt x="16" y="984"/>
                  </a:moveTo>
                  <a:lnTo>
                    <a:pt x="1155" y="18"/>
                  </a:lnTo>
                  <a:lnTo>
                    <a:pt x="1153" y="0"/>
                  </a:lnTo>
                  <a:lnTo>
                    <a:pt x="0" y="984"/>
                  </a:lnTo>
                  <a:lnTo>
                    <a:pt x="16" y="98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1"/>
            <p:cNvSpPr/>
            <p:nvPr/>
          </p:nvSpPr>
          <p:spPr>
            <a:xfrm>
              <a:off x="233280" y="5484960"/>
              <a:ext cx="1614600" cy="1382400"/>
            </a:xfrm>
            <a:custGeom>
              <a:avLst/>
              <a:gdLst>
                <a:gd name="textAreaLeft" fmla="*/ 0 w 1614600"/>
                <a:gd name="textAreaRight" fmla="*/ 1614960 w 1614600"/>
                <a:gd name="textAreaTop" fmla="*/ 0 h 1382400"/>
                <a:gd name="textAreaBottom" fmla="*/ 1382400 h 1382400"/>
              </a:gdLst>
              <a:ahLst/>
              <a:rect l="textAreaLeft" t="textAreaTop" r="textAreaRight" b="textAreaBottom"/>
              <a:pathLst>
                <a:path w="1017" h="871">
                  <a:moveTo>
                    <a:pt x="17" y="871"/>
                  </a:moveTo>
                  <a:lnTo>
                    <a:pt x="1011" y="21"/>
                  </a:lnTo>
                  <a:lnTo>
                    <a:pt x="1017" y="0"/>
                  </a:lnTo>
                  <a:lnTo>
                    <a:pt x="0" y="870"/>
                  </a:lnTo>
                  <a:lnTo>
                    <a:pt x="17" y="87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2"/>
            <p:cNvSpPr/>
            <p:nvPr/>
          </p:nvSpPr>
          <p:spPr>
            <a:xfrm>
              <a:off x="681120" y="5889600"/>
              <a:ext cx="1189080" cy="981000"/>
            </a:xfrm>
            <a:custGeom>
              <a:avLst/>
              <a:gdLst>
                <a:gd name="textAreaLeft" fmla="*/ 0 w 1189080"/>
                <a:gd name="textAreaRight" fmla="*/ 1189080 w 118908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749" h="618">
                  <a:moveTo>
                    <a:pt x="0" y="618"/>
                  </a:moveTo>
                  <a:lnTo>
                    <a:pt x="723" y="6"/>
                  </a:lnTo>
                  <a:lnTo>
                    <a:pt x="749" y="0"/>
                  </a:lnTo>
                  <a:lnTo>
                    <a:pt x="24" y="616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3"/>
            <p:cNvSpPr/>
            <p:nvPr/>
          </p:nvSpPr>
          <p:spPr>
            <a:xfrm>
              <a:off x="907920" y="6072120"/>
              <a:ext cx="930240" cy="7952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586" h="501">
                  <a:moveTo>
                    <a:pt x="18" y="501"/>
                  </a:moveTo>
                  <a:lnTo>
                    <a:pt x="583" y="18"/>
                  </a:lnTo>
                  <a:lnTo>
                    <a:pt x="586" y="0"/>
                  </a:lnTo>
                  <a:lnTo>
                    <a:pt x="0" y="500"/>
                  </a:lnTo>
                  <a:lnTo>
                    <a:pt x="18" y="50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4"/>
            <p:cNvSpPr/>
            <p:nvPr/>
          </p:nvSpPr>
          <p:spPr>
            <a:xfrm>
              <a:off x="1119240" y="6253200"/>
              <a:ext cx="728640" cy="61416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459" h="387">
                  <a:moveTo>
                    <a:pt x="20" y="387"/>
                  </a:moveTo>
                  <a:lnTo>
                    <a:pt x="459" y="14"/>
                  </a:lnTo>
                  <a:lnTo>
                    <a:pt x="456" y="0"/>
                  </a:lnTo>
                  <a:lnTo>
                    <a:pt x="0" y="387"/>
                  </a:lnTo>
                  <a:lnTo>
                    <a:pt x="20" y="38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5"/>
            <p:cNvSpPr/>
            <p:nvPr/>
          </p:nvSpPr>
          <p:spPr>
            <a:xfrm>
              <a:off x="1579680" y="6638760"/>
              <a:ext cx="261720" cy="228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5" h="144">
                  <a:moveTo>
                    <a:pt x="13" y="144"/>
                  </a:moveTo>
                  <a:lnTo>
                    <a:pt x="162" y="17"/>
                  </a:lnTo>
                  <a:lnTo>
                    <a:pt x="165" y="0"/>
                  </a:lnTo>
                  <a:lnTo>
                    <a:pt x="0" y="143"/>
                  </a:lnTo>
                  <a:lnTo>
                    <a:pt x="13" y="14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6"/>
            <p:cNvSpPr/>
            <p:nvPr/>
          </p:nvSpPr>
          <p:spPr>
            <a:xfrm>
              <a:off x="1795320" y="6838920"/>
              <a:ext cx="33480" cy="284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1" h="18">
                  <a:moveTo>
                    <a:pt x="14" y="18"/>
                  </a:moveTo>
                  <a:lnTo>
                    <a:pt x="20" y="15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7"/>
            <p:cNvSpPr/>
            <p:nvPr/>
          </p:nvSpPr>
          <p:spPr>
            <a:xfrm>
              <a:off x="-7920" y="3089160"/>
              <a:ext cx="816120" cy="72396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514" h="456">
                  <a:moveTo>
                    <a:pt x="2" y="438"/>
                  </a:moveTo>
                  <a:lnTo>
                    <a:pt x="511" y="0"/>
                  </a:lnTo>
                  <a:lnTo>
                    <a:pt x="514" y="7"/>
                  </a:lnTo>
                  <a:lnTo>
                    <a:pt x="0" y="456"/>
                  </a:lnTo>
                  <a:lnTo>
                    <a:pt x="2" y="438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8"/>
            <p:cNvSpPr/>
            <p:nvPr/>
          </p:nvSpPr>
          <p:spPr>
            <a:xfrm>
              <a:off x="-7920" y="3260880"/>
              <a:ext cx="1258920" cy="1096920"/>
            </a:xfrm>
            <a:custGeom>
              <a:avLst/>
              <a:gdLst>
                <a:gd name="textAreaLeft" fmla="*/ 0 w 1258920"/>
                <a:gd name="textAreaRight" fmla="*/ 1258920 w 1258920"/>
                <a:gd name="textAreaTop" fmla="*/ 0 h 1096920"/>
                <a:gd name="textAreaBottom" fmla="*/ 1097280 h 1096920"/>
              </a:gdLst>
              <a:ahLst/>
              <a:rect l="textAreaLeft" t="textAreaTop" r="textAreaRight" b="textAreaBottom"/>
              <a:pathLst>
                <a:path w="793" h="691">
                  <a:moveTo>
                    <a:pt x="0" y="691"/>
                  </a:moveTo>
                  <a:lnTo>
                    <a:pt x="793" y="7"/>
                  </a:lnTo>
                  <a:lnTo>
                    <a:pt x="788" y="0"/>
                  </a:lnTo>
                  <a:lnTo>
                    <a:pt x="0" y="675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9"/>
            <p:cNvSpPr/>
            <p:nvPr/>
          </p:nvSpPr>
          <p:spPr>
            <a:xfrm>
              <a:off x="-4680" y="3614760"/>
              <a:ext cx="1485720" cy="128124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1281240"/>
                <a:gd name="textAreaBottom" fmla="*/ 1281600 h 1281240"/>
              </a:gdLst>
              <a:ahLst/>
              <a:rect l="textAreaLeft" t="textAreaTop" r="textAreaRight" b="textAreaBottom"/>
              <a:pathLst>
                <a:path w="936" h="807">
                  <a:moveTo>
                    <a:pt x="0" y="807"/>
                  </a:moveTo>
                  <a:lnTo>
                    <a:pt x="936" y="4"/>
                  </a:lnTo>
                  <a:lnTo>
                    <a:pt x="929" y="0"/>
                  </a:lnTo>
                  <a:lnTo>
                    <a:pt x="0" y="789"/>
                  </a:lnTo>
                  <a:lnTo>
                    <a:pt x="0" y="80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0"/>
            <p:cNvSpPr/>
            <p:nvPr/>
          </p:nvSpPr>
          <p:spPr>
            <a:xfrm>
              <a:off x="-7920" y="4003560"/>
              <a:ext cx="1854360" cy="161460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1614600"/>
                <a:gd name="textAreaBottom" fmla="*/ 1614960 h 1614600"/>
              </a:gdLst>
              <a:ahLst/>
              <a:rect l="textAreaLeft" t="textAreaTop" r="textAreaRight" b="textAreaBottom"/>
              <a:pathLst>
                <a:path w="1168" h="1017">
                  <a:moveTo>
                    <a:pt x="0" y="1017"/>
                  </a:moveTo>
                  <a:lnTo>
                    <a:pt x="1168" y="9"/>
                  </a:lnTo>
                  <a:lnTo>
                    <a:pt x="1166" y="0"/>
                  </a:lnTo>
                  <a:lnTo>
                    <a:pt x="0" y="1000"/>
                  </a:lnTo>
                  <a:lnTo>
                    <a:pt x="0" y="1017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1"/>
            <p:cNvSpPr/>
            <p:nvPr/>
          </p:nvSpPr>
          <p:spPr>
            <a:xfrm>
              <a:off x="-9360" y="4734000"/>
              <a:ext cx="1855800" cy="1617480"/>
            </a:xfrm>
            <a:custGeom>
              <a:avLst/>
              <a:gdLst>
                <a:gd name="textAreaLeft" fmla="*/ 0 w 1855800"/>
                <a:gd name="textAreaRight" fmla="*/ 1855800 w 1855800"/>
                <a:gd name="textAreaTop" fmla="*/ 0 h 1617480"/>
                <a:gd name="textAreaBottom" fmla="*/ 1617840 h 1617480"/>
              </a:gdLst>
              <a:ahLst/>
              <a:rect l="textAreaLeft" t="textAreaTop" r="textAreaRight" b="textAreaBottom"/>
              <a:pathLst>
                <a:path w="1169" h="1019">
                  <a:moveTo>
                    <a:pt x="0" y="1019"/>
                  </a:moveTo>
                  <a:lnTo>
                    <a:pt x="1166" y="12"/>
                  </a:lnTo>
                  <a:lnTo>
                    <a:pt x="1169" y="0"/>
                  </a:lnTo>
                  <a:lnTo>
                    <a:pt x="0" y="999"/>
                  </a:lnTo>
                  <a:lnTo>
                    <a:pt x="0" y="1019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2"/>
            <p:cNvSpPr/>
            <p:nvPr/>
          </p:nvSpPr>
          <p:spPr>
            <a:xfrm>
              <a:off x="1341360" y="6261120"/>
              <a:ext cx="717480" cy="60624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452" h="382">
                  <a:moveTo>
                    <a:pt x="21" y="381"/>
                  </a:moveTo>
                  <a:lnTo>
                    <a:pt x="452" y="12"/>
                  </a:lnTo>
                  <a:lnTo>
                    <a:pt x="449" y="0"/>
                  </a:lnTo>
                  <a:lnTo>
                    <a:pt x="0" y="382"/>
                  </a:lnTo>
                  <a:lnTo>
                    <a:pt x="21" y="381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3"/>
            <p:cNvSpPr/>
            <p:nvPr/>
          </p:nvSpPr>
          <p:spPr>
            <a:xfrm>
              <a:off x="469800" y="5629320"/>
              <a:ext cx="1457280" cy="124128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918" h="782">
                  <a:moveTo>
                    <a:pt x="18" y="782"/>
                  </a:moveTo>
                  <a:lnTo>
                    <a:pt x="918" y="0"/>
                  </a:lnTo>
                  <a:lnTo>
                    <a:pt x="885" y="15"/>
                  </a:lnTo>
                  <a:lnTo>
                    <a:pt x="0" y="780"/>
                  </a:lnTo>
                  <a:lnTo>
                    <a:pt x="18" y="782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Text Box 38"/>
          <p:cNvSpPr/>
          <p:nvPr/>
        </p:nvSpPr>
        <p:spPr>
          <a:xfrm>
            <a:off x="111600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3" descr=""/>
          <p:cNvPicPr/>
          <p:nvPr/>
        </p:nvPicPr>
        <p:blipFill>
          <a:blip r:embed="rId2"/>
          <a:stretch/>
        </p:blipFill>
        <p:spPr>
          <a:xfrm>
            <a:off x="149400" y="115920"/>
            <a:ext cx="1326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7"/>
          <p:cNvGrpSpPr/>
          <p:nvPr/>
        </p:nvGrpSpPr>
        <p:grpSpPr>
          <a:xfrm>
            <a:off x="-9360" y="1168560"/>
            <a:ext cx="7273800" cy="5742000"/>
            <a:chOff x="-9360" y="1168560"/>
            <a:chExt cx="7273800" cy="5742000"/>
          </a:xfrm>
        </p:grpSpPr>
        <p:sp>
          <p:nvSpPr>
            <p:cNvPr id="111" name="Freeform 8"/>
            <p:cNvSpPr/>
            <p:nvPr/>
          </p:nvSpPr>
          <p:spPr>
            <a:xfrm>
              <a:off x="-3240" y="2114640"/>
              <a:ext cx="5322960" cy="4672080"/>
            </a:xfrm>
            <a:custGeom>
              <a:avLst/>
              <a:gdLst>
                <a:gd name="textAreaLeft" fmla="*/ 0 w 5322960"/>
                <a:gd name="textAreaRight" fmla="*/ 5323320 w 5322960"/>
                <a:gd name="textAreaTop" fmla="*/ 0 h 4672080"/>
                <a:gd name="textAreaBottom" fmla="*/ 4672080 h 4672080"/>
              </a:gdLst>
              <a:ahLst/>
              <a:rect l="textAreaLeft" t="textAreaTop" r="textAreaRight" b="textAreaBottom"/>
              <a:pathLst>
                <a:path w="3353" h="2943">
                  <a:moveTo>
                    <a:pt x="0" y="2943"/>
                  </a:moveTo>
                  <a:lnTo>
                    <a:pt x="3353" y="3"/>
                  </a:lnTo>
                  <a:lnTo>
                    <a:pt x="3346" y="0"/>
                  </a:lnTo>
                  <a:lnTo>
                    <a:pt x="2" y="2924"/>
                  </a:lnTo>
                  <a:lnTo>
                    <a:pt x="0" y="294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9"/>
            <p:cNvSpPr/>
            <p:nvPr/>
          </p:nvSpPr>
          <p:spPr>
            <a:xfrm>
              <a:off x="-3240" y="2033640"/>
              <a:ext cx="4746600" cy="4165560"/>
            </a:xfrm>
            <a:custGeom>
              <a:avLst/>
              <a:gdLst>
                <a:gd name="textAreaLeft" fmla="*/ 0 w 4746600"/>
                <a:gd name="textAreaRight" fmla="*/ 4746960 w 4746600"/>
                <a:gd name="textAreaTop" fmla="*/ 0 h 4165560"/>
                <a:gd name="textAreaBottom" fmla="*/ 4165920 h 4165560"/>
              </a:gdLst>
              <a:ahLst/>
              <a:rect l="textAreaLeft" t="textAreaTop" r="textAreaRight" b="textAreaBottom"/>
              <a:pathLst>
                <a:path w="2990" h="2624">
                  <a:moveTo>
                    <a:pt x="0" y="2624"/>
                  </a:moveTo>
                  <a:lnTo>
                    <a:pt x="2990" y="3"/>
                  </a:lnTo>
                  <a:lnTo>
                    <a:pt x="2983" y="0"/>
                  </a:lnTo>
                  <a:lnTo>
                    <a:pt x="0" y="2604"/>
                  </a:lnTo>
                  <a:lnTo>
                    <a:pt x="0" y="262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0"/>
            <p:cNvSpPr/>
            <p:nvPr/>
          </p:nvSpPr>
          <p:spPr>
            <a:xfrm>
              <a:off x="-3240" y="1658880"/>
              <a:ext cx="4835520" cy="4240440"/>
            </a:xfrm>
            <a:custGeom>
              <a:avLst/>
              <a:gdLst>
                <a:gd name="textAreaLeft" fmla="*/ 0 w 4835520"/>
                <a:gd name="textAreaRight" fmla="*/ 4835880 w 4835520"/>
                <a:gd name="textAreaTop" fmla="*/ 0 h 4240440"/>
                <a:gd name="textAreaBottom" fmla="*/ 4240440 h 4240440"/>
              </a:gdLst>
              <a:ahLst/>
              <a:rect l="textAreaLeft" t="textAreaTop" r="textAreaRight" b="textAreaBottom"/>
              <a:pathLst>
                <a:path w="3046" h="2671">
                  <a:moveTo>
                    <a:pt x="0" y="2671"/>
                  </a:moveTo>
                  <a:lnTo>
                    <a:pt x="3046" y="3"/>
                  </a:lnTo>
                  <a:lnTo>
                    <a:pt x="3039" y="0"/>
                  </a:lnTo>
                  <a:lnTo>
                    <a:pt x="0" y="2653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"/>
            <p:cNvSpPr/>
            <p:nvPr/>
          </p:nvSpPr>
          <p:spPr>
            <a:xfrm>
              <a:off x="-9360" y="2606760"/>
              <a:ext cx="4440240" cy="38844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884400"/>
                <a:gd name="textAreaBottom" fmla="*/ 3884760 h 3884400"/>
              </a:gdLst>
              <a:ahLst/>
              <a:rect l="textAreaLeft" t="textAreaTop" r="textAreaRight" b="textAreaBottom"/>
              <a:pathLst>
                <a:path w="2797" h="2447">
                  <a:moveTo>
                    <a:pt x="3" y="2447"/>
                  </a:moveTo>
                  <a:lnTo>
                    <a:pt x="2797" y="3"/>
                  </a:lnTo>
                  <a:lnTo>
                    <a:pt x="2790" y="0"/>
                  </a:lnTo>
                  <a:lnTo>
                    <a:pt x="0" y="2429"/>
                  </a:lnTo>
                  <a:lnTo>
                    <a:pt x="3" y="244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"/>
            <p:cNvSpPr/>
            <p:nvPr/>
          </p:nvSpPr>
          <p:spPr>
            <a:xfrm>
              <a:off x="-3240" y="2036880"/>
              <a:ext cx="4071960" cy="357336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3573360"/>
                <a:gd name="textAreaBottom" fmla="*/ 3573720 h 3573360"/>
              </a:gdLst>
              <a:ahLst/>
              <a:rect l="textAreaLeft" t="textAreaTop" r="textAreaRight" b="textAreaBottom"/>
              <a:pathLst>
                <a:path w="2565" h="2251">
                  <a:moveTo>
                    <a:pt x="2" y="2251"/>
                  </a:moveTo>
                  <a:lnTo>
                    <a:pt x="2565" y="3"/>
                  </a:lnTo>
                  <a:lnTo>
                    <a:pt x="2558" y="0"/>
                  </a:lnTo>
                  <a:lnTo>
                    <a:pt x="0" y="2230"/>
                  </a:lnTo>
                  <a:lnTo>
                    <a:pt x="2" y="22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3"/>
            <p:cNvSpPr/>
            <p:nvPr/>
          </p:nvSpPr>
          <p:spPr>
            <a:xfrm>
              <a:off x="-9360" y="1851120"/>
              <a:ext cx="3954240" cy="3449520"/>
            </a:xfrm>
            <a:custGeom>
              <a:avLst/>
              <a:gdLst>
                <a:gd name="textAreaLeft" fmla="*/ 0 w 3954240"/>
                <a:gd name="textAreaRight" fmla="*/ 3954600 w 3954240"/>
                <a:gd name="textAreaTop" fmla="*/ 0 h 3449520"/>
                <a:gd name="textAreaBottom" fmla="*/ 3449880 h 3449520"/>
              </a:gdLst>
              <a:ahLst/>
              <a:rect l="textAreaLeft" t="textAreaTop" r="textAreaRight" b="textAreaBottom"/>
              <a:pathLst>
                <a:path w="2491" h="2173">
                  <a:moveTo>
                    <a:pt x="1" y="2173"/>
                  </a:moveTo>
                  <a:lnTo>
                    <a:pt x="2491" y="3"/>
                  </a:lnTo>
                  <a:lnTo>
                    <a:pt x="2484" y="0"/>
                  </a:lnTo>
                  <a:lnTo>
                    <a:pt x="0" y="2154"/>
                  </a:lnTo>
                  <a:lnTo>
                    <a:pt x="1" y="217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4"/>
            <p:cNvSpPr/>
            <p:nvPr/>
          </p:nvSpPr>
          <p:spPr>
            <a:xfrm>
              <a:off x="-4680" y="1346040"/>
              <a:ext cx="4165560" cy="3657600"/>
            </a:xfrm>
            <a:custGeom>
              <a:avLst/>
              <a:gdLst>
                <a:gd name="textAreaLeft" fmla="*/ 0 w 4165560"/>
                <a:gd name="textAreaRight" fmla="*/ 4165920 w 416556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2624" h="2304">
                  <a:moveTo>
                    <a:pt x="1" y="2304"/>
                  </a:moveTo>
                  <a:lnTo>
                    <a:pt x="2624" y="3"/>
                  </a:lnTo>
                  <a:lnTo>
                    <a:pt x="2617" y="0"/>
                  </a:lnTo>
                  <a:lnTo>
                    <a:pt x="0" y="2281"/>
                  </a:lnTo>
                  <a:lnTo>
                    <a:pt x="1" y="230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"/>
            <p:cNvSpPr/>
            <p:nvPr/>
          </p:nvSpPr>
          <p:spPr>
            <a:xfrm>
              <a:off x="-3240" y="1463760"/>
              <a:ext cx="3699000" cy="3244680"/>
            </a:xfrm>
            <a:custGeom>
              <a:avLst/>
              <a:gdLst>
                <a:gd name="textAreaLeft" fmla="*/ 0 w 3699000"/>
                <a:gd name="textAreaRight" fmla="*/ 3699360 w 3699000"/>
                <a:gd name="textAreaTop" fmla="*/ 0 h 3244680"/>
                <a:gd name="textAreaBottom" fmla="*/ 3245040 h 3244680"/>
              </a:gdLst>
              <a:ahLst/>
              <a:rect l="textAreaLeft" t="textAreaTop" r="textAreaRight" b="textAreaBottom"/>
              <a:pathLst>
                <a:path w="2330" h="2044">
                  <a:moveTo>
                    <a:pt x="0" y="2044"/>
                  </a:moveTo>
                  <a:lnTo>
                    <a:pt x="2330" y="3"/>
                  </a:lnTo>
                  <a:lnTo>
                    <a:pt x="2323" y="0"/>
                  </a:lnTo>
                  <a:lnTo>
                    <a:pt x="2" y="2021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6"/>
            <p:cNvSpPr/>
            <p:nvPr/>
          </p:nvSpPr>
          <p:spPr>
            <a:xfrm>
              <a:off x="-7920" y="1168560"/>
              <a:ext cx="3687840" cy="3246120"/>
            </a:xfrm>
            <a:custGeom>
              <a:avLst/>
              <a:gdLst>
                <a:gd name="textAreaLeft" fmla="*/ 0 w 3687840"/>
                <a:gd name="textAreaRight" fmla="*/ 3688200 w 3687840"/>
                <a:gd name="textAreaTop" fmla="*/ 0 h 3246120"/>
                <a:gd name="textAreaBottom" fmla="*/ 3246480 h 3246120"/>
              </a:gdLst>
              <a:ahLst/>
              <a:rect l="textAreaLeft" t="textAreaTop" r="textAreaRight" b="textAreaBottom"/>
              <a:pathLst>
                <a:path w="2323" h="2045">
                  <a:moveTo>
                    <a:pt x="2" y="2045"/>
                  </a:moveTo>
                  <a:lnTo>
                    <a:pt x="2323" y="3"/>
                  </a:lnTo>
                  <a:lnTo>
                    <a:pt x="2316" y="0"/>
                  </a:lnTo>
                  <a:lnTo>
                    <a:pt x="0" y="2023"/>
                  </a:lnTo>
                  <a:lnTo>
                    <a:pt x="2" y="2045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7"/>
            <p:cNvSpPr/>
            <p:nvPr/>
          </p:nvSpPr>
          <p:spPr>
            <a:xfrm>
              <a:off x="-9360" y="1474920"/>
              <a:ext cx="2992320" cy="2652480"/>
            </a:xfrm>
            <a:custGeom>
              <a:avLst/>
              <a:gdLst>
                <a:gd name="textAreaLeft" fmla="*/ 0 w 2992320"/>
                <a:gd name="textAreaRight" fmla="*/ 2992680 w 2992320"/>
                <a:gd name="textAreaTop" fmla="*/ 0 h 2652480"/>
                <a:gd name="textAreaBottom" fmla="*/ 2652480 h 2652480"/>
              </a:gdLst>
              <a:ahLst/>
              <a:rect l="textAreaLeft" t="textAreaTop" r="textAreaRight" b="textAreaBottom"/>
              <a:pathLst>
                <a:path w="1885" h="1671">
                  <a:moveTo>
                    <a:pt x="0" y="1671"/>
                  </a:moveTo>
                  <a:lnTo>
                    <a:pt x="1885" y="3"/>
                  </a:lnTo>
                  <a:lnTo>
                    <a:pt x="1878" y="0"/>
                  </a:lnTo>
                  <a:lnTo>
                    <a:pt x="1" y="1647"/>
                  </a:lnTo>
                  <a:lnTo>
                    <a:pt x="0" y="1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8"/>
            <p:cNvSpPr/>
            <p:nvPr/>
          </p:nvSpPr>
          <p:spPr>
            <a:xfrm>
              <a:off x="-7920" y="1182600"/>
              <a:ext cx="2990880" cy="2640240"/>
            </a:xfrm>
            <a:custGeom>
              <a:avLst/>
              <a:gdLst>
                <a:gd name="textAreaLeft" fmla="*/ 0 w 2990880"/>
                <a:gd name="textAreaRight" fmla="*/ 2991240 w 2990880"/>
                <a:gd name="textAreaTop" fmla="*/ 0 h 2640240"/>
                <a:gd name="textAreaBottom" fmla="*/ 2640600 h 2640240"/>
              </a:gdLst>
              <a:ahLst/>
              <a:rect l="textAreaLeft" t="textAreaTop" r="textAreaRight" b="textAreaBottom"/>
              <a:pathLst>
                <a:path w="1884" h="1663">
                  <a:moveTo>
                    <a:pt x="3" y="1663"/>
                  </a:moveTo>
                  <a:lnTo>
                    <a:pt x="1884" y="3"/>
                  </a:lnTo>
                  <a:lnTo>
                    <a:pt x="1877" y="0"/>
                  </a:lnTo>
                  <a:lnTo>
                    <a:pt x="0" y="1643"/>
                  </a:lnTo>
                  <a:lnTo>
                    <a:pt x="3" y="166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9"/>
            <p:cNvSpPr/>
            <p:nvPr/>
          </p:nvSpPr>
          <p:spPr>
            <a:xfrm>
              <a:off x="152280" y="2627280"/>
              <a:ext cx="4946760" cy="428328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4283280"/>
                <a:gd name="textAreaBottom" fmla="*/ 4283640 h 4283280"/>
              </a:gdLst>
              <a:ahLst/>
              <a:rect l="textAreaLeft" t="textAreaTop" r="textAreaRight" b="textAreaBottom"/>
              <a:pathLst>
                <a:path w="3116" h="2698">
                  <a:moveTo>
                    <a:pt x="21" y="2697"/>
                  </a:moveTo>
                  <a:lnTo>
                    <a:pt x="3116" y="3"/>
                  </a:lnTo>
                  <a:lnTo>
                    <a:pt x="3109" y="0"/>
                  </a:lnTo>
                  <a:lnTo>
                    <a:pt x="0" y="2698"/>
                  </a:lnTo>
                  <a:lnTo>
                    <a:pt x="21" y="269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0"/>
            <p:cNvSpPr/>
            <p:nvPr/>
          </p:nvSpPr>
          <p:spPr>
            <a:xfrm>
              <a:off x="531720" y="3013200"/>
              <a:ext cx="4453200" cy="3887640"/>
            </a:xfrm>
            <a:custGeom>
              <a:avLst/>
              <a:gdLst>
                <a:gd name="textAreaLeft" fmla="*/ 0 w 4453200"/>
                <a:gd name="textAreaRight" fmla="*/ 4453560 w 4453200"/>
                <a:gd name="textAreaTop" fmla="*/ 0 h 3887640"/>
                <a:gd name="textAreaBottom" fmla="*/ 3888000 h 3887640"/>
              </a:gdLst>
              <a:ahLst/>
              <a:rect l="textAreaLeft" t="textAreaTop" r="textAreaRight" b="textAreaBottom"/>
              <a:pathLst>
                <a:path w="2805" h="2449">
                  <a:moveTo>
                    <a:pt x="18" y="2449"/>
                  </a:moveTo>
                  <a:lnTo>
                    <a:pt x="2805" y="3"/>
                  </a:lnTo>
                  <a:lnTo>
                    <a:pt x="2798" y="0"/>
                  </a:lnTo>
                  <a:lnTo>
                    <a:pt x="0" y="2448"/>
                  </a:lnTo>
                  <a:lnTo>
                    <a:pt x="18" y="244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>
              <a:off x="851040" y="2944800"/>
              <a:ext cx="4566960" cy="3956040"/>
            </a:xfrm>
            <a:custGeom>
              <a:avLst/>
              <a:gdLst>
                <a:gd name="textAreaLeft" fmla="*/ 0 w 4566960"/>
                <a:gd name="textAreaRight" fmla="*/ 4567320 w 4566960"/>
                <a:gd name="textAreaTop" fmla="*/ 0 h 3956040"/>
                <a:gd name="textAreaBottom" fmla="*/ 3956400 h 3956040"/>
              </a:gdLst>
              <a:ahLst/>
              <a:rect l="textAreaLeft" t="textAreaTop" r="textAreaRight" b="textAreaBottom"/>
              <a:pathLst>
                <a:path w="2877" h="2492">
                  <a:moveTo>
                    <a:pt x="27" y="2491"/>
                  </a:moveTo>
                  <a:lnTo>
                    <a:pt x="2877" y="3"/>
                  </a:lnTo>
                  <a:lnTo>
                    <a:pt x="2870" y="0"/>
                  </a:lnTo>
                  <a:lnTo>
                    <a:pt x="0" y="2492"/>
                  </a:lnTo>
                  <a:lnTo>
                    <a:pt x="27" y="249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2"/>
            <p:cNvSpPr/>
            <p:nvPr/>
          </p:nvSpPr>
          <p:spPr>
            <a:xfrm>
              <a:off x="1208160" y="2936880"/>
              <a:ext cx="4545000" cy="3962520"/>
            </a:xfrm>
            <a:custGeom>
              <a:avLst/>
              <a:gdLst>
                <a:gd name="textAreaLeft" fmla="*/ 0 w 4545000"/>
                <a:gd name="textAreaRight" fmla="*/ 4545360 w 4545000"/>
                <a:gd name="textAreaTop" fmla="*/ 0 h 3962520"/>
                <a:gd name="textAreaBottom" fmla="*/ 3962880 h 3962520"/>
              </a:gdLst>
              <a:ahLst/>
              <a:rect l="textAreaLeft" t="textAreaTop" r="textAreaRight" b="textAreaBottom"/>
              <a:pathLst>
                <a:path w="2863" h="2496">
                  <a:moveTo>
                    <a:pt x="19" y="2496"/>
                  </a:moveTo>
                  <a:lnTo>
                    <a:pt x="2863" y="3"/>
                  </a:lnTo>
                  <a:lnTo>
                    <a:pt x="2856" y="0"/>
                  </a:lnTo>
                  <a:lnTo>
                    <a:pt x="0" y="2496"/>
                  </a:lnTo>
                  <a:lnTo>
                    <a:pt x="19" y="249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"/>
            <p:cNvSpPr/>
            <p:nvPr/>
          </p:nvSpPr>
          <p:spPr>
            <a:xfrm>
              <a:off x="1538280" y="3533760"/>
              <a:ext cx="3897360" cy="3367080"/>
            </a:xfrm>
            <a:custGeom>
              <a:avLst/>
              <a:gdLst>
                <a:gd name="textAreaLeft" fmla="*/ 0 w 3897360"/>
                <a:gd name="textAreaRight" fmla="*/ 3897720 w 389736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455" h="2121">
                  <a:moveTo>
                    <a:pt x="29" y="2121"/>
                  </a:moveTo>
                  <a:lnTo>
                    <a:pt x="2455" y="3"/>
                  </a:lnTo>
                  <a:lnTo>
                    <a:pt x="2448" y="0"/>
                  </a:lnTo>
                  <a:lnTo>
                    <a:pt x="0" y="2120"/>
                  </a:lnTo>
                  <a:lnTo>
                    <a:pt x="29" y="212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>
              <a:off x="1890720" y="3206880"/>
              <a:ext cx="4253040" cy="3698640"/>
            </a:xfrm>
            <a:custGeom>
              <a:avLst/>
              <a:gdLst>
                <a:gd name="textAreaLeft" fmla="*/ 0 w 4253040"/>
                <a:gd name="textAreaRight" fmla="*/ 4253400 w 4253040"/>
                <a:gd name="textAreaTop" fmla="*/ 0 h 3698640"/>
                <a:gd name="textAreaBottom" fmla="*/ 3699000 h 3698640"/>
              </a:gdLst>
              <a:ahLst/>
              <a:rect l="textAreaLeft" t="textAreaTop" r="textAreaRight" b="textAreaBottom"/>
              <a:pathLst>
                <a:path w="2679" h="2330">
                  <a:moveTo>
                    <a:pt x="29" y="2330"/>
                  </a:moveTo>
                  <a:lnTo>
                    <a:pt x="2679" y="3"/>
                  </a:lnTo>
                  <a:lnTo>
                    <a:pt x="2672" y="0"/>
                  </a:lnTo>
                  <a:lnTo>
                    <a:pt x="0" y="2329"/>
                  </a:lnTo>
                  <a:lnTo>
                    <a:pt x="29" y="233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"/>
            <p:cNvSpPr/>
            <p:nvPr/>
          </p:nvSpPr>
          <p:spPr>
            <a:xfrm>
              <a:off x="2243160" y="4154400"/>
              <a:ext cx="3184560" cy="2746440"/>
            </a:xfrm>
            <a:custGeom>
              <a:avLst/>
              <a:gdLst>
                <a:gd name="textAreaLeft" fmla="*/ 0 w 3184560"/>
                <a:gd name="textAreaRight" fmla="*/ 3184920 w 3184560"/>
                <a:gd name="textAreaTop" fmla="*/ 0 h 2746440"/>
                <a:gd name="textAreaBottom" fmla="*/ 2746800 h 2746440"/>
              </a:gdLst>
              <a:ahLst/>
              <a:rect l="textAreaLeft" t="textAreaTop" r="textAreaRight" b="textAreaBottom"/>
              <a:pathLst>
                <a:path w="2006" h="1730">
                  <a:moveTo>
                    <a:pt x="27" y="1729"/>
                  </a:moveTo>
                  <a:lnTo>
                    <a:pt x="2006" y="3"/>
                  </a:lnTo>
                  <a:lnTo>
                    <a:pt x="1999" y="0"/>
                  </a:lnTo>
                  <a:lnTo>
                    <a:pt x="0" y="1730"/>
                  </a:lnTo>
                  <a:lnTo>
                    <a:pt x="27" y="17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6"/>
            <p:cNvSpPr/>
            <p:nvPr/>
          </p:nvSpPr>
          <p:spPr>
            <a:xfrm>
              <a:off x="2608200" y="3894120"/>
              <a:ext cx="3492720" cy="3006720"/>
            </a:xfrm>
            <a:custGeom>
              <a:avLst/>
              <a:gdLst>
                <a:gd name="textAreaLeft" fmla="*/ 0 w 3492720"/>
                <a:gd name="textAreaRight" fmla="*/ 3493080 w 3492720"/>
                <a:gd name="textAreaTop" fmla="*/ 0 h 3006720"/>
                <a:gd name="textAreaBottom" fmla="*/ 3007080 h 3006720"/>
              </a:gdLst>
              <a:ahLst/>
              <a:rect l="textAreaLeft" t="textAreaTop" r="textAreaRight" b="textAreaBottom"/>
              <a:pathLst>
                <a:path w="2200" h="1894">
                  <a:moveTo>
                    <a:pt x="27" y="1894"/>
                  </a:moveTo>
                  <a:lnTo>
                    <a:pt x="2200" y="3"/>
                  </a:lnTo>
                  <a:lnTo>
                    <a:pt x="2193" y="0"/>
                  </a:lnTo>
                  <a:lnTo>
                    <a:pt x="0" y="1894"/>
                  </a:lnTo>
                  <a:lnTo>
                    <a:pt x="27" y="189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7"/>
            <p:cNvSpPr/>
            <p:nvPr/>
          </p:nvSpPr>
          <p:spPr>
            <a:xfrm>
              <a:off x="2995560" y="3924360"/>
              <a:ext cx="3376800" cy="2975040"/>
            </a:xfrm>
            <a:custGeom>
              <a:avLst/>
              <a:gdLst>
                <a:gd name="textAreaLeft" fmla="*/ 0 w 3376800"/>
                <a:gd name="textAreaRight" fmla="*/ 3377160 w 337680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27" h="1874">
                  <a:moveTo>
                    <a:pt x="26" y="1874"/>
                  </a:moveTo>
                  <a:lnTo>
                    <a:pt x="2127" y="3"/>
                  </a:lnTo>
                  <a:lnTo>
                    <a:pt x="2120" y="0"/>
                  </a:lnTo>
                  <a:lnTo>
                    <a:pt x="0" y="1874"/>
                  </a:lnTo>
                  <a:lnTo>
                    <a:pt x="26" y="187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8"/>
            <p:cNvSpPr/>
            <p:nvPr/>
          </p:nvSpPr>
          <p:spPr>
            <a:xfrm>
              <a:off x="3355920" y="4591080"/>
              <a:ext cx="2668680" cy="2305080"/>
            </a:xfrm>
            <a:custGeom>
              <a:avLst/>
              <a:gdLst>
                <a:gd name="textAreaLeft" fmla="*/ 0 w 2668680"/>
                <a:gd name="textAreaRight" fmla="*/ 2669040 w 2668680"/>
                <a:gd name="textAreaTop" fmla="*/ 0 h 2305080"/>
                <a:gd name="textAreaBottom" fmla="*/ 2305440 h 2305080"/>
              </a:gdLst>
              <a:ahLst/>
              <a:rect l="textAreaLeft" t="textAreaTop" r="textAreaRight" b="textAreaBottom"/>
              <a:pathLst>
                <a:path w="1681" h="1452">
                  <a:moveTo>
                    <a:pt x="28" y="1451"/>
                  </a:moveTo>
                  <a:lnTo>
                    <a:pt x="1681" y="3"/>
                  </a:lnTo>
                  <a:lnTo>
                    <a:pt x="1674" y="0"/>
                  </a:lnTo>
                  <a:lnTo>
                    <a:pt x="0" y="1452"/>
                  </a:lnTo>
                  <a:lnTo>
                    <a:pt x="28" y="14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9"/>
            <p:cNvSpPr/>
            <p:nvPr/>
          </p:nvSpPr>
          <p:spPr>
            <a:xfrm>
              <a:off x="3703680" y="4421160"/>
              <a:ext cx="2851200" cy="24782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2478240"/>
                <a:gd name="textAreaBottom" fmla="*/ 2478600 h 2478240"/>
              </a:gdLst>
              <a:ahLst/>
              <a:rect l="textAreaLeft" t="textAreaTop" r="textAreaRight" b="textAreaBottom"/>
              <a:pathLst>
                <a:path w="1796" h="1561">
                  <a:moveTo>
                    <a:pt x="31" y="1559"/>
                  </a:moveTo>
                  <a:lnTo>
                    <a:pt x="1796" y="3"/>
                  </a:lnTo>
                  <a:lnTo>
                    <a:pt x="1789" y="0"/>
                  </a:lnTo>
                  <a:lnTo>
                    <a:pt x="0" y="1561"/>
                  </a:lnTo>
                  <a:lnTo>
                    <a:pt x="31" y="155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0"/>
            <p:cNvSpPr/>
            <p:nvPr/>
          </p:nvSpPr>
          <p:spPr>
            <a:xfrm>
              <a:off x="4046400" y="4406760"/>
              <a:ext cx="2865600" cy="2498760"/>
            </a:xfrm>
            <a:custGeom>
              <a:avLst/>
              <a:gdLst>
                <a:gd name="textAreaLeft" fmla="*/ 0 w 2865600"/>
                <a:gd name="textAreaRight" fmla="*/ 2865960 w 2865600"/>
                <a:gd name="textAreaTop" fmla="*/ 0 h 2498760"/>
                <a:gd name="textAreaBottom" fmla="*/ 2499120 h 2498760"/>
              </a:gdLst>
              <a:ahLst/>
              <a:rect l="textAreaLeft" t="textAreaTop" r="textAreaRight" b="textAreaBottom"/>
              <a:pathLst>
                <a:path w="1805" h="1574">
                  <a:moveTo>
                    <a:pt x="33" y="1570"/>
                  </a:moveTo>
                  <a:lnTo>
                    <a:pt x="1805" y="3"/>
                  </a:lnTo>
                  <a:lnTo>
                    <a:pt x="1798" y="0"/>
                  </a:lnTo>
                  <a:lnTo>
                    <a:pt x="0" y="1574"/>
                  </a:lnTo>
                  <a:lnTo>
                    <a:pt x="33" y="157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1"/>
            <p:cNvSpPr/>
            <p:nvPr/>
          </p:nvSpPr>
          <p:spPr>
            <a:xfrm>
              <a:off x="4410000" y="4826160"/>
              <a:ext cx="2406600" cy="2074680"/>
            </a:xfrm>
            <a:custGeom>
              <a:avLst/>
              <a:gdLst>
                <a:gd name="textAreaLeft" fmla="*/ 0 w 2406600"/>
                <a:gd name="textAreaRight" fmla="*/ 2406960 w 2406600"/>
                <a:gd name="textAreaTop" fmla="*/ 0 h 2074680"/>
                <a:gd name="textAreaBottom" fmla="*/ 2075040 h 2074680"/>
              </a:gdLst>
              <a:ahLst/>
              <a:rect l="textAreaLeft" t="textAreaTop" r="textAreaRight" b="textAreaBottom"/>
              <a:pathLst>
                <a:path w="1516" h="1307">
                  <a:moveTo>
                    <a:pt x="29" y="1307"/>
                  </a:moveTo>
                  <a:lnTo>
                    <a:pt x="1516" y="3"/>
                  </a:lnTo>
                  <a:lnTo>
                    <a:pt x="1509" y="0"/>
                  </a:lnTo>
                  <a:lnTo>
                    <a:pt x="0" y="1307"/>
                  </a:lnTo>
                  <a:lnTo>
                    <a:pt x="29" y="130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2"/>
            <p:cNvSpPr/>
            <p:nvPr/>
          </p:nvSpPr>
          <p:spPr>
            <a:xfrm>
              <a:off x="5153040" y="5584680"/>
              <a:ext cx="1535040" cy="13161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316160"/>
                <a:gd name="textAreaBottom" fmla="*/ 1316520 h 1316160"/>
              </a:gdLst>
              <a:ahLst/>
              <a:rect l="textAreaLeft" t="textAreaTop" r="textAreaRight" b="textAreaBottom"/>
              <a:pathLst>
                <a:path w="967" h="829">
                  <a:moveTo>
                    <a:pt x="18" y="829"/>
                  </a:moveTo>
                  <a:lnTo>
                    <a:pt x="967" y="3"/>
                  </a:lnTo>
                  <a:lnTo>
                    <a:pt x="960" y="0"/>
                  </a:lnTo>
                  <a:lnTo>
                    <a:pt x="0" y="828"/>
                  </a:lnTo>
                  <a:lnTo>
                    <a:pt x="18" y="8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3"/>
            <p:cNvSpPr/>
            <p:nvPr/>
          </p:nvSpPr>
          <p:spPr>
            <a:xfrm>
              <a:off x="5491080" y="5462640"/>
              <a:ext cx="1652760" cy="1438200"/>
            </a:xfrm>
            <a:custGeom>
              <a:avLst/>
              <a:gdLst>
                <a:gd name="textAreaLeft" fmla="*/ 0 w 1652760"/>
                <a:gd name="textAreaRight" fmla="*/ 1653120 w 1652760"/>
                <a:gd name="textAreaTop" fmla="*/ 0 h 1438200"/>
                <a:gd name="textAreaBottom" fmla="*/ 1438560 h 1438200"/>
              </a:gdLst>
              <a:ahLst/>
              <a:rect l="textAreaLeft" t="textAreaTop" r="textAreaRight" b="textAreaBottom"/>
              <a:pathLst>
                <a:path w="1041" h="906">
                  <a:moveTo>
                    <a:pt x="24" y="906"/>
                  </a:moveTo>
                  <a:lnTo>
                    <a:pt x="1041" y="3"/>
                  </a:lnTo>
                  <a:lnTo>
                    <a:pt x="1034" y="0"/>
                  </a:lnTo>
                  <a:lnTo>
                    <a:pt x="0" y="903"/>
                  </a:lnTo>
                  <a:lnTo>
                    <a:pt x="24" y="9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4"/>
            <p:cNvSpPr/>
            <p:nvPr/>
          </p:nvSpPr>
          <p:spPr>
            <a:xfrm>
              <a:off x="5823000" y="5653080"/>
              <a:ext cx="1441440" cy="125244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908" h="789">
                  <a:moveTo>
                    <a:pt x="22" y="786"/>
                  </a:moveTo>
                  <a:lnTo>
                    <a:pt x="908" y="3"/>
                  </a:lnTo>
                  <a:lnTo>
                    <a:pt x="901" y="0"/>
                  </a:lnTo>
                  <a:lnTo>
                    <a:pt x="0" y="789"/>
                  </a:lnTo>
                  <a:lnTo>
                    <a:pt x="22" y="78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5"/>
            <p:cNvSpPr/>
            <p:nvPr/>
          </p:nvSpPr>
          <p:spPr>
            <a:xfrm>
              <a:off x="4770360" y="4822920"/>
              <a:ext cx="2373480" cy="2081160"/>
            </a:xfrm>
            <a:custGeom>
              <a:avLst/>
              <a:gdLst>
                <a:gd name="textAreaLeft" fmla="*/ 0 w 2373480"/>
                <a:gd name="textAreaRight" fmla="*/ 2373840 w 2373480"/>
                <a:gd name="textAreaTop" fmla="*/ 0 h 2081160"/>
                <a:gd name="textAreaBottom" fmla="*/ 2081520 h 2081160"/>
              </a:gdLst>
              <a:ahLst/>
              <a:rect l="textAreaLeft" t="textAreaTop" r="textAreaRight" b="textAreaBottom"/>
              <a:pathLst>
                <a:path w="1495" h="1311">
                  <a:moveTo>
                    <a:pt x="30" y="1306"/>
                  </a:moveTo>
                  <a:lnTo>
                    <a:pt x="1495" y="3"/>
                  </a:lnTo>
                  <a:lnTo>
                    <a:pt x="1488" y="0"/>
                  </a:lnTo>
                  <a:lnTo>
                    <a:pt x="0" y="1311"/>
                  </a:lnTo>
                  <a:lnTo>
                    <a:pt x="30" y="13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36"/>
          <p:cNvSpPr/>
          <p:nvPr/>
        </p:nvSpPr>
        <p:spPr>
          <a:xfrm>
            <a:off x="1692360" y="3645000"/>
            <a:ext cx="745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7"/>
          <p:cNvSpPr/>
          <p:nvPr/>
        </p:nvSpPr>
        <p:spPr>
          <a:xfrm flipH="1">
            <a:off x="1763280" y="3645000"/>
            <a:ext cx="73803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9"/>
          <p:cNvSpPr/>
          <p:nvPr/>
        </p:nvSpPr>
        <p:spPr>
          <a:xfrm>
            <a:off x="4859280" y="645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3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49400" y="115920"/>
            <a:ext cx="13269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7"/>
          <p:cNvGrpSpPr/>
          <p:nvPr/>
        </p:nvGrpSpPr>
        <p:grpSpPr>
          <a:xfrm>
            <a:off x="-9360" y="1168560"/>
            <a:ext cx="7273800" cy="5742000"/>
            <a:chOff x="-9360" y="1168560"/>
            <a:chExt cx="7273800" cy="5742000"/>
          </a:xfrm>
        </p:grpSpPr>
        <p:sp>
          <p:nvSpPr>
            <p:cNvPr id="183" name="Freeform 8"/>
            <p:cNvSpPr/>
            <p:nvPr/>
          </p:nvSpPr>
          <p:spPr>
            <a:xfrm>
              <a:off x="-3240" y="2114640"/>
              <a:ext cx="5322960" cy="4672080"/>
            </a:xfrm>
            <a:custGeom>
              <a:avLst/>
              <a:gdLst>
                <a:gd name="textAreaLeft" fmla="*/ 0 w 5322960"/>
                <a:gd name="textAreaRight" fmla="*/ 5323320 w 5322960"/>
                <a:gd name="textAreaTop" fmla="*/ 0 h 4672080"/>
                <a:gd name="textAreaBottom" fmla="*/ 4672080 h 4672080"/>
              </a:gdLst>
              <a:ahLst/>
              <a:rect l="textAreaLeft" t="textAreaTop" r="textAreaRight" b="textAreaBottom"/>
              <a:pathLst>
                <a:path w="3353" h="2943">
                  <a:moveTo>
                    <a:pt x="0" y="2943"/>
                  </a:moveTo>
                  <a:lnTo>
                    <a:pt x="3353" y="3"/>
                  </a:lnTo>
                  <a:lnTo>
                    <a:pt x="3346" y="0"/>
                  </a:lnTo>
                  <a:lnTo>
                    <a:pt x="2" y="2924"/>
                  </a:lnTo>
                  <a:lnTo>
                    <a:pt x="0" y="294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-3240" y="2033640"/>
              <a:ext cx="4746600" cy="4165560"/>
            </a:xfrm>
            <a:custGeom>
              <a:avLst/>
              <a:gdLst>
                <a:gd name="textAreaLeft" fmla="*/ 0 w 4746600"/>
                <a:gd name="textAreaRight" fmla="*/ 4746960 w 4746600"/>
                <a:gd name="textAreaTop" fmla="*/ 0 h 4165560"/>
                <a:gd name="textAreaBottom" fmla="*/ 4165920 h 4165560"/>
              </a:gdLst>
              <a:ahLst/>
              <a:rect l="textAreaLeft" t="textAreaTop" r="textAreaRight" b="textAreaBottom"/>
              <a:pathLst>
                <a:path w="2990" h="2624">
                  <a:moveTo>
                    <a:pt x="0" y="2624"/>
                  </a:moveTo>
                  <a:lnTo>
                    <a:pt x="2990" y="3"/>
                  </a:lnTo>
                  <a:lnTo>
                    <a:pt x="2983" y="0"/>
                  </a:lnTo>
                  <a:lnTo>
                    <a:pt x="0" y="2604"/>
                  </a:lnTo>
                  <a:lnTo>
                    <a:pt x="0" y="262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-3240" y="1658880"/>
              <a:ext cx="4835520" cy="4240440"/>
            </a:xfrm>
            <a:custGeom>
              <a:avLst/>
              <a:gdLst>
                <a:gd name="textAreaLeft" fmla="*/ 0 w 4835520"/>
                <a:gd name="textAreaRight" fmla="*/ 4835880 w 4835520"/>
                <a:gd name="textAreaTop" fmla="*/ 0 h 4240440"/>
                <a:gd name="textAreaBottom" fmla="*/ 4240440 h 4240440"/>
              </a:gdLst>
              <a:ahLst/>
              <a:rect l="textAreaLeft" t="textAreaTop" r="textAreaRight" b="textAreaBottom"/>
              <a:pathLst>
                <a:path w="3046" h="2671">
                  <a:moveTo>
                    <a:pt x="0" y="2671"/>
                  </a:moveTo>
                  <a:lnTo>
                    <a:pt x="3046" y="3"/>
                  </a:lnTo>
                  <a:lnTo>
                    <a:pt x="3039" y="0"/>
                  </a:lnTo>
                  <a:lnTo>
                    <a:pt x="0" y="2653"/>
                  </a:lnTo>
                  <a:lnTo>
                    <a:pt x="0" y="2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-9360" y="2606760"/>
              <a:ext cx="4440240" cy="38844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884400"/>
                <a:gd name="textAreaBottom" fmla="*/ 3884760 h 3884400"/>
              </a:gdLst>
              <a:ahLst/>
              <a:rect l="textAreaLeft" t="textAreaTop" r="textAreaRight" b="textAreaBottom"/>
              <a:pathLst>
                <a:path w="2797" h="2447">
                  <a:moveTo>
                    <a:pt x="3" y="2447"/>
                  </a:moveTo>
                  <a:lnTo>
                    <a:pt x="2797" y="3"/>
                  </a:lnTo>
                  <a:lnTo>
                    <a:pt x="2790" y="0"/>
                  </a:lnTo>
                  <a:lnTo>
                    <a:pt x="0" y="2429"/>
                  </a:lnTo>
                  <a:lnTo>
                    <a:pt x="3" y="244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-3240" y="2036880"/>
              <a:ext cx="4071960" cy="357336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3573360"/>
                <a:gd name="textAreaBottom" fmla="*/ 3573720 h 3573360"/>
              </a:gdLst>
              <a:ahLst/>
              <a:rect l="textAreaLeft" t="textAreaTop" r="textAreaRight" b="textAreaBottom"/>
              <a:pathLst>
                <a:path w="2565" h="2251">
                  <a:moveTo>
                    <a:pt x="2" y="2251"/>
                  </a:moveTo>
                  <a:lnTo>
                    <a:pt x="2565" y="3"/>
                  </a:lnTo>
                  <a:lnTo>
                    <a:pt x="2558" y="0"/>
                  </a:lnTo>
                  <a:lnTo>
                    <a:pt x="0" y="2230"/>
                  </a:lnTo>
                  <a:lnTo>
                    <a:pt x="2" y="22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-9360" y="1851120"/>
              <a:ext cx="3954240" cy="3449520"/>
            </a:xfrm>
            <a:custGeom>
              <a:avLst/>
              <a:gdLst>
                <a:gd name="textAreaLeft" fmla="*/ 0 w 3954240"/>
                <a:gd name="textAreaRight" fmla="*/ 3954600 w 3954240"/>
                <a:gd name="textAreaTop" fmla="*/ 0 h 3449520"/>
                <a:gd name="textAreaBottom" fmla="*/ 3449880 h 3449520"/>
              </a:gdLst>
              <a:ahLst/>
              <a:rect l="textAreaLeft" t="textAreaTop" r="textAreaRight" b="textAreaBottom"/>
              <a:pathLst>
                <a:path w="2491" h="2173">
                  <a:moveTo>
                    <a:pt x="1" y="2173"/>
                  </a:moveTo>
                  <a:lnTo>
                    <a:pt x="2491" y="3"/>
                  </a:lnTo>
                  <a:lnTo>
                    <a:pt x="2484" y="0"/>
                  </a:lnTo>
                  <a:lnTo>
                    <a:pt x="0" y="2154"/>
                  </a:lnTo>
                  <a:lnTo>
                    <a:pt x="1" y="217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-4680" y="1346040"/>
              <a:ext cx="4165560" cy="3657600"/>
            </a:xfrm>
            <a:custGeom>
              <a:avLst/>
              <a:gdLst>
                <a:gd name="textAreaLeft" fmla="*/ 0 w 4165560"/>
                <a:gd name="textAreaRight" fmla="*/ 4165920 w 416556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2624" h="2304">
                  <a:moveTo>
                    <a:pt x="1" y="2304"/>
                  </a:moveTo>
                  <a:lnTo>
                    <a:pt x="2624" y="3"/>
                  </a:lnTo>
                  <a:lnTo>
                    <a:pt x="2617" y="0"/>
                  </a:lnTo>
                  <a:lnTo>
                    <a:pt x="0" y="2281"/>
                  </a:lnTo>
                  <a:lnTo>
                    <a:pt x="1" y="230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-3240" y="1463760"/>
              <a:ext cx="3699000" cy="3244680"/>
            </a:xfrm>
            <a:custGeom>
              <a:avLst/>
              <a:gdLst>
                <a:gd name="textAreaLeft" fmla="*/ 0 w 3699000"/>
                <a:gd name="textAreaRight" fmla="*/ 3699360 w 3699000"/>
                <a:gd name="textAreaTop" fmla="*/ 0 h 3244680"/>
                <a:gd name="textAreaBottom" fmla="*/ 3245040 h 3244680"/>
              </a:gdLst>
              <a:ahLst/>
              <a:rect l="textAreaLeft" t="textAreaTop" r="textAreaRight" b="textAreaBottom"/>
              <a:pathLst>
                <a:path w="2330" h="2044">
                  <a:moveTo>
                    <a:pt x="0" y="2044"/>
                  </a:moveTo>
                  <a:lnTo>
                    <a:pt x="2330" y="3"/>
                  </a:lnTo>
                  <a:lnTo>
                    <a:pt x="2323" y="0"/>
                  </a:lnTo>
                  <a:lnTo>
                    <a:pt x="2" y="2021"/>
                  </a:lnTo>
                  <a:lnTo>
                    <a:pt x="0" y="204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-7920" y="1168560"/>
              <a:ext cx="3687840" cy="3246120"/>
            </a:xfrm>
            <a:custGeom>
              <a:avLst/>
              <a:gdLst>
                <a:gd name="textAreaLeft" fmla="*/ 0 w 3687840"/>
                <a:gd name="textAreaRight" fmla="*/ 3688200 w 3687840"/>
                <a:gd name="textAreaTop" fmla="*/ 0 h 3246120"/>
                <a:gd name="textAreaBottom" fmla="*/ 3246480 h 3246120"/>
              </a:gdLst>
              <a:ahLst/>
              <a:rect l="textAreaLeft" t="textAreaTop" r="textAreaRight" b="textAreaBottom"/>
              <a:pathLst>
                <a:path w="2323" h="2045">
                  <a:moveTo>
                    <a:pt x="2" y="2045"/>
                  </a:moveTo>
                  <a:lnTo>
                    <a:pt x="2323" y="3"/>
                  </a:lnTo>
                  <a:lnTo>
                    <a:pt x="2316" y="0"/>
                  </a:lnTo>
                  <a:lnTo>
                    <a:pt x="0" y="2023"/>
                  </a:lnTo>
                  <a:lnTo>
                    <a:pt x="2" y="2045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"/>
            <p:cNvSpPr/>
            <p:nvPr/>
          </p:nvSpPr>
          <p:spPr>
            <a:xfrm>
              <a:off x="-9360" y="1474920"/>
              <a:ext cx="2992320" cy="2652480"/>
            </a:xfrm>
            <a:custGeom>
              <a:avLst/>
              <a:gdLst>
                <a:gd name="textAreaLeft" fmla="*/ 0 w 2992320"/>
                <a:gd name="textAreaRight" fmla="*/ 2992680 w 2992320"/>
                <a:gd name="textAreaTop" fmla="*/ 0 h 2652480"/>
                <a:gd name="textAreaBottom" fmla="*/ 2652480 h 2652480"/>
              </a:gdLst>
              <a:ahLst/>
              <a:rect l="textAreaLeft" t="textAreaTop" r="textAreaRight" b="textAreaBottom"/>
              <a:pathLst>
                <a:path w="1885" h="1671">
                  <a:moveTo>
                    <a:pt x="0" y="1671"/>
                  </a:moveTo>
                  <a:lnTo>
                    <a:pt x="1885" y="3"/>
                  </a:lnTo>
                  <a:lnTo>
                    <a:pt x="1878" y="0"/>
                  </a:lnTo>
                  <a:lnTo>
                    <a:pt x="1" y="1647"/>
                  </a:lnTo>
                  <a:lnTo>
                    <a:pt x="0" y="167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8"/>
            <p:cNvSpPr/>
            <p:nvPr/>
          </p:nvSpPr>
          <p:spPr>
            <a:xfrm>
              <a:off x="-7920" y="1182600"/>
              <a:ext cx="2990880" cy="2640240"/>
            </a:xfrm>
            <a:custGeom>
              <a:avLst/>
              <a:gdLst>
                <a:gd name="textAreaLeft" fmla="*/ 0 w 2990880"/>
                <a:gd name="textAreaRight" fmla="*/ 2991240 w 2990880"/>
                <a:gd name="textAreaTop" fmla="*/ 0 h 2640240"/>
                <a:gd name="textAreaBottom" fmla="*/ 2640600 h 2640240"/>
              </a:gdLst>
              <a:ahLst/>
              <a:rect l="textAreaLeft" t="textAreaTop" r="textAreaRight" b="textAreaBottom"/>
              <a:pathLst>
                <a:path w="1884" h="1663">
                  <a:moveTo>
                    <a:pt x="3" y="1663"/>
                  </a:moveTo>
                  <a:lnTo>
                    <a:pt x="1884" y="3"/>
                  </a:lnTo>
                  <a:lnTo>
                    <a:pt x="1877" y="0"/>
                  </a:lnTo>
                  <a:lnTo>
                    <a:pt x="0" y="1643"/>
                  </a:lnTo>
                  <a:lnTo>
                    <a:pt x="3" y="1663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"/>
            <p:cNvSpPr/>
            <p:nvPr/>
          </p:nvSpPr>
          <p:spPr>
            <a:xfrm>
              <a:off x="152280" y="2627280"/>
              <a:ext cx="4946760" cy="428328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4283280"/>
                <a:gd name="textAreaBottom" fmla="*/ 4283640 h 4283280"/>
              </a:gdLst>
              <a:ahLst/>
              <a:rect l="textAreaLeft" t="textAreaTop" r="textAreaRight" b="textAreaBottom"/>
              <a:pathLst>
                <a:path w="3116" h="2698">
                  <a:moveTo>
                    <a:pt x="21" y="2697"/>
                  </a:moveTo>
                  <a:lnTo>
                    <a:pt x="3116" y="3"/>
                  </a:lnTo>
                  <a:lnTo>
                    <a:pt x="3109" y="0"/>
                  </a:lnTo>
                  <a:lnTo>
                    <a:pt x="0" y="2698"/>
                  </a:lnTo>
                  <a:lnTo>
                    <a:pt x="21" y="269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"/>
            <p:cNvSpPr/>
            <p:nvPr/>
          </p:nvSpPr>
          <p:spPr>
            <a:xfrm>
              <a:off x="531720" y="3013200"/>
              <a:ext cx="4453200" cy="3887640"/>
            </a:xfrm>
            <a:custGeom>
              <a:avLst/>
              <a:gdLst>
                <a:gd name="textAreaLeft" fmla="*/ 0 w 4453200"/>
                <a:gd name="textAreaRight" fmla="*/ 4453560 w 4453200"/>
                <a:gd name="textAreaTop" fmla="*/ 0 h 3887640"/>
                <a:gd name="textAreaBottom" fmla="*/ 3888000 h 3887640"/>
              </a:gdLst>
              <a:ahLst/>
              <a:rect l="textAreaLeft" t="textAreaTop" r="textAreaRight" b="textAreaBottom"/>
              <a:pathLst>
                <a:path w="2805" h="2449">
                  <a:moveTo>
                    <a:pt x="18" y="2449"/>
                  </a:moveTo>
                  <a:lnTo>
                    <a:pt x="2805" y="3"/>
                  </a:lnTo>
                  <a:lnTo>
                    <a:pt x="2798" y="0"/>
                  </a:lnTo>
                  <a:lnTo>
                    <a:pt x="0" y="2448"/>
                  </a:lnTo>
                  <a:lnTo>
                    <a:pt x="18" y="244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"/>
            <p:cNvSpPr/>
            <p:nvPr/>
          </p:nvSpPr>
          <p:spPr>
            <a:xfrm>
              <a:off x="851040" y="2944800"/>
              <a:ext cx="4566960" cy="3956040"/>
            </a:xfrm>
            <a:custGeom>
              <a:avLst/>
              <a:gdLst>
                <a:gd name="textAreaLeft" fmla="*/ 0 w 4566960"/>
                <a:gd name="textAreaRight" fmla="*/ 4567320 w 4566960"/>
                <a:gd name="textAreaTop" fmla="*/ 0 h 3956040"/>
                <a:gd name="textAreaBottom" fmla="*/ 3956400 h 3956040"/>
              </a:gdLst>
              <a:ahLst/>
              <a:rect l="textAreaLeft" t="textAreaTop" r="textAreaRight" b="textAreaBottom"/>
              <a:pathLst>
                <a:path w="2877" h="2492">
                  <a:moveTo>
                    <a:pt x="27" y="2491"/>
                  </a:moveTo>
                  <a:lnTo>
                    <a:pt x="2877" y="3"/>
                  </a:lnTo>
                  <a:lnTo>
                    <a:pt x="2870" y="0"/>
                  </a:lnTo>
                  <a:lnTo>
                    <a:pt x="0" y="2492"/>
                  </a:lnTo>
                  <a:lnTo>
                    <a:pt x="27" y="249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1208160" y="2936880"/>
              <a:ext cx="4545000" cy="3962520"/>
            </a:xfrm>
            <a:custGeom>
              <a:avLst/>
              <a:gdLst>
                <a:gd name="textAreaLeft" fmla="*/ 0 w 4545000"/>
                <a:gd name="textAreaRight" fmla="*/ 4545360 w 4545000"/>
                <a:gd name="textAreaTop" fmla="*/ 0 h 3962520"/>
                <a:gd name="textAreaBottom" fmla="*/ 3962880 h 3962520"/>
              </a:gdLst>
              <a:ahLst/>
              <a:rect l="textAreaLeft" t="textAreaTop" r="textAreaRight" b="textAreaBottom"/>
              <a:pathLst>
                <a:path w="2863" h="2496">
                  <a:moveTo>
                    <a:pt x="19" y="2496"/>
                  </a:moveTo>
                  <a:lnTo>
                    <a:pt x="2863" y="3"/>
                  </a:lnTo>
                  <a:lnTo>
                    <a:pt x="2856" y="0"/>
                  </a:lnTo>
                  <a:lnTo>
                    <a:pt x="0" y="2496"/>
                  </a:lnTo>
                  <a:lnTo>
                    <a:pt x="19" y="249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3"/>
            <p:cNvSpPr/>
            <p:nvPr/>
          </p:nvSpPr>
          <p:spPr>
            <a:xfrm>
              <a:off x="1538280" y="3533760"/>
              <a:ext cx="3897360" cy="3367080"/>
            </a:xfrm>
            <a:custGeom>
              <a:avLst/>
              <a:gdLst>
                <a:gd name="textAreaLeft" fmla="*/ 0 w 3897360"/>
                <a:gd name="textAreaRight" fmla="*/ 3897720 w 389736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455" h="2121">
                  <a:moveTo>
                    <a:pt x="29" y="2121"/>
                  </a:moveTo>
                  <a:lnTo>
                    <a:pt x="2455" y="3"/>
                  </a:lnTo>
                  <a:lnTo>
                    <a:pt x="2448" y="0"/>
                  </a:lnTo>
                  <a:lnTo>
                    <a:pt x="0" y="2120"/>
                  </a:lnTo>
                  <a:lnTo>
                    <a:pt x="29" y="212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4"/>
            <p:cNvSpPr/>
            <p:nvPr/>
          </p:nvSpPr>
          <p:spPr>
            <a:xfrm>
              <a:off x="1890720" y="3206880"/>
              <a:ext cx="4253040" cy="3698640"/>
            </a:xfrm>
            <a:custGeom>
              <a:avLst/>
              <a:gdLst>
                <a:gd name="textAreaLeft" fmla="*/ 0 w 4253040"/>
                <a:gd name="textAreaRight" fmla="*/ 4253400 w 4253040"/>
                <a:gd name="textAreaTop" fmla="*/ 0 h 3698640"/>
                <a:gd name="textAreaBottom" fmla="*/ 3699000 h 3698640"/>
              </a:gdLst>
              <a:ahLst/>
              <a:rect l="textAreaLeft" t="textAreaTop" r="textAreaRight" b="textAreaBottom"/>
              <a:pathLst>
                <a:path w="2679" h="2330">
                  <a:moveTo>
                    <a:pt x="29" y="2330"/>
                  </a:moveTo>
                  <a:lnTo>
                    <a:pt x="2679" y="3"/>
                  </a:lnTo>
                  <a:lnTo>
                    <a:pt x="2672" y="0"/>
                  </a:lnTo>
                  <a:lnTo>
                    <a:pt x="0" y="2329"/>
                  </a:lnTo>
                  <a:lnTo>
                    <a:pt x="29" y="233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5"/>
            <p:cNvSpPr/>
            <p:nvPr/>
          </p:nvSpPr>
          <p:spPr>
            <a:xfrm>
              <a:off x="2243160" y="4154400"/>
              <a:ext cx="3184560" cy="2746440"/>
            </a:xfrm>
            <a:custGeom>
              <a:avLst/>
              <a:gdLst>
                <a:gd name="textAreaLeft" fmla="*/ 0 w 3184560"/>
                <a:gd name="textAreaRight" fmla="*/ 3184920 w 3184560"/>
                <a:gd name="textAreaTop" fmla="*/ 0 h 2746440"/>
                <a:gd name="textAreaBottom" fmla="*/ 2746800 h 2746440"/>
              </a:gdLst>
              <a:ahLst/>
              <a:rect l="textAreaLeft" t="textAreaTop" r="textAreaRight" b="textAreaBottom"/>
              <a:pathLst>
                <a:path w="2006" h="1730">
                  <a:moveTo>
                    <a:pt x="27" y="1729"/>
                  </a:moveTo>
                  <a:lnTo>
                    <a:pt x="2006" y="3"/>
                  </a:lnTo>
                  <a:lnTo>
                    <a:pt x="1999" y="0"/>
                  </a:lnTo>
                  <a:lnTo>
                    <a:pt x="0" y="1730"/>
                  </a:lnTo>
                  <a:lnTo>
                    <a:pt x="27" y="17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6"/>
            <p:cNvSpPr/>
            <p:nvPr/>
          </p:nvSpPr>
          <p:spPr>
            <a:xfrm>
              <a:off x="2608200" y="3894120"/>
              <a:ext cx="3492720" cy="3006720"/>
            </a:xfrm>
            <a:custGeom>
              <a:avLst/>
              <a:gdLst>
                <a:gd name="textAreaLeft" fmla="*/ 0 w 3492720"/>
                <a:gd name="textAreaRight" fmla="*/ 3493080 w 3492720"/>
                <a:gd name="textAreaTop" fmla="*/ 0 h 3006720"/>
                <a:gd name="textAreaBottom" fmla="*/ 3007080 h 3006720"/>
              </a:gdLst>
              <a:ahLst/>
              <a:rect l="textAreaLeft" t="textAreaTop" r="textAreaRight" b="textAreaBottom"/>
              <a:pathLst>
                <a:path w="2200" h="1894">
                  <a:moveTo>
                    <a:pt x="27" y="1894"/>
                  </a:moveTo>
                  <a:lnTo>
                    <a:pt x="2200" y="3"/>
                  </a:lnTo>
                  <a:lnTo>
                    <a:pt x="2193" y="0"/>
                  </a:lnTo>
                  <a:lnTo>
                    <a:pt x="0" y="1894"/>
                  </a:lnTo>
                  <a:lnTo>
                    <a:pt x="27" y="189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7"/>
            <p:cNvSpPr/>
            <p:nvPr/>
          </p:nvSpPr>
          <p:spPr>
            <a:xfrm>
              <a:off x="2995560" y="3924360"/>
              <a:ext cx="3376800" cy="2975040"/>
            </a:xfrm>
            <a:custGeom>
              <a:avLst/>
              <a:gdLst>
                <a:gd name="textAreaLeft" fmla="*/ 0 w 3376800"/>
                <a:gd name="textAreaRight" fmla="*/ 3377160 w 337680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27" h="1874">
                  <a:moveTo>
                    <a:pt x="26" y="1874"/>
                  </a:moveTo>
                  <a:lnTo>
                    <a:pt x="2127" y="3"/>
                  </a:lnTo>
                  <a:lnTo>
                    <a:pt x="2120" y="0"/>
                  </a:lnTo>
                  <a:lnTo>
                    <a:pt x="0" y="1874"/>
                  </a:lnTo>
                  <a:lnTo>
                    <a:pt x="26" y="1874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8"/>
            <p:cNvSpPr/>
            <p:nvPr/>
          </p:nvSpPr>
          <p:spPr>
            <a:xfrm>
              <a:off x="3355920" y="4591080"/>
              <a:ext cx="2668680" cy="2305080"/>
            </a:xfrm>
            <a:custGeom>
              <a:avLst/>
              <a:gdLst>
                <a:gd name="textAreaLeft" fmla="*/ 0 w 2668680"/>
                <a:gd name="textAreaRight" fmla="*/ 2669040 w 2668680"/>
                <a:gd name="textAreaTop" fmla="*/ 0 h 2305080"/>
                <a:gd name="textAreaBottom" fmla="*/ 2305440 h 2305080"/>
              </a:gdLst>
              <a:ahLst/>
              <a:rect l="textAreaLeft" t="textAreaTop" r="textAreaRight" b="textAreaBottom"/>
              <a:pathLst>
                <a:path w="1681" h="1452">
                  <a:moveTo>
                    <a:pt x="28" y="1451"/>
                  </a:moveTo>
                  <a:lnTo>
                    <a:pt x="1681" y="3"/>
                  </a:lnTo>
                  <a:lnTo>
                    <a:pt x="1674" y="0"/>
                  </a:lnTo>
                  <a:lnTo>
                    <a:pt x="0" y="1452"/>
                  </a:lnTo>
                  <a:lnTo>
                    <a:pt x="28" y="1451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9"/>
            <p:cNvSpPr/>
            <p:nvPr/>
          </p:nvSpPr>
          <p:spPr>
            <a:xfrm>
              <a:off x="3703680" y="4421160"/>
              <a:ext cx="2851200" cy="24782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2478240"/>
                <a:gd name="textAreaBottom" fmla="*/ 2478600 h 2478240"/>
              </a:gdLst>
              <a:ahLst/>
              <a:rect l="textAreaLeft" t="textAreaTop" r="textAreaRight" b="textAreaBottom"/>
              <a:pathLst>
                <a:path w="1796" h="1561">
                  <a:moveTo>
                    <a:pt x="31" y="1559"/>
                  </a:moveTo>
                  <a:lnTo>
                    <a:pt x="1796" y="3"/>
                  </a:lnTo>
                  <a:lnTo>
                    <a:pt x="1789" y="0"/>
                  </a:lnTo>
                  <a:lnTo>
                    <a:pt x="0" y="1561"/>
                  </a:lnTo>
                  <a:lnTo>
                    <a:pt x="31" y="155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0"/>
            <p:cNvSpPr/>
            <p:nvPr/>
          </p:nvSpPr>
          <p:spPr>
            <a:xfrm>
              <a:off x="4046400" y="4406760"/>
              <a:ext cx="2865600" cy="2498760"/>
            </a:xfrm>
            <a:custGeom>
              <a:avLst/>
              <a:gdLst>
                <a:gd name="textAreaLeft" fmla="*/ 0 w 2865600"/>
                <a:gd name="textAreaRight" fmla="*/ 2865960 w 2865600"/>
                <a:gd name="textAreaTop" fmla="*/ 0 h 2498760"/>
                <a:gd name="textAreaBottom" fmla="*/ 2499120 h 2498760"/>
              </a:gdLst>
              <a:ahLst/>
              <a:rect l="textAreaLeft" t="textAreaTop" r="textAreaRight" b="textAreaBottom"/>
              <a:pathLst>
                <a:path w="1805" h="1574">
                  <a:moveTo>
                    <a:pt x="33" y="1570"/>
                  </a:moveTo>
                  <a:lnTo>
                    <a:pt x="1805" y="3"/>
                  </a:lnTo>
                  <a:lnTo>
                    <a:pt x="1798" y="0"/>
                  </a:lnTo>
                  <a:lnTo>
                    <a:pt x="0" y="1574"/>
                  </a:lnTo>
                  <a:lnTo>
                    <a:pt x="33" y="1570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1"/>
            <p:cNvSpPr/>
            <p:nvPr/>
          </p:nvSpPr>
          <p:spPr>
            <a:xfrm>
              <a:off x="4410000" y="4826160"/>
              <a:ext cx="2406600" cy="2074680"/>
            </a:xfrm>
            <a:custGeom>
              <a:avLst/>
              <a:gdLst>
                <a:gd name="textAreaLeft" fmla="*/ 0 w 2406600"/>
                <a:gd name="textAreaRight" fmla="*/ 2406960 w 2406600"/>
                <a:gd name="textAreaTop" fmla="*/ 0 h 2074680"/>
                <a:gd name="textAreaBottom" fmla="*/ 2075040 h 2074680"/>
              </a:gdLst>
              <a:ahLst/>
              <a:rect l="textAreaLeft" t="textAreaTop" r="textAreaRight" b="textAreaBottom"/>
              <a:pathLst>
                <a:path w="1516" h="1307">
                  <a:moveTo>
                    <a:pt x="29" y="1307"/>
                  </a:moveTo>
                  <a:lnTo>
                    <a:pt x="1516" y="3"/>
                  </a:lnTo>
                  <a:lnTo>
                    <a:pt x="1509" y="0"/>
                  </a:lnTo>
                  <a:lnTo>
                    <a:pt x="0" y="1307"/>
                  </a:lnTo>
                  <a:lnTo>
                    <a:pt x="29" y="1307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2"/>
            <p:cNvSpPr/>
            <p:nvPr/>
          </p:nvSpPr>
          <p:spPr>
            <a:xfrm>
              <a:off x="5153040" y="5584680"/>
              <a:ext cx="1535040" cy="13161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316160"/>
                <a:gd name="textAreaBottom" fmla="*/ 1316520 h 1316160"/>
              </a:gdLst>
              <a:ahLst/>
              <a:rect l="textAreaLeft" t="textAreaTop" r="textAreaRight" b="textAreaBottom"/>
              <a:pathLst>
                <a:path w="967" h="829">
                  <a:moveTo>
                    <a:pt x="18" y="829"/>
                  </a:moveTo>
                  <a:lnTo>
                    <a:pt x="967" y="3"/>
                  </a:lnTo>
                  <a:lnTo>
                    <a:pt x="960" y="0"/>
                  </a:lnTo>
                  <a:lnTo>
                    <a:pt x="0" y="828"/>
                  </a:lnTo>
                  <a:lnTo>
                    <a:pt x="18" y="829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3"/>
            <p:cNvSpPr/>
            <p:nvPr/>
          </p:nvSpPr>
          <p:spPr>
            <a:xfrm>
              <a:off x="5491080" y="5462640"/>
              <a:ext cx="1652760" cy="1438200"/>
            </a:xfrm>
            <a:custGeom>
              <a:avLst/>
              <a:gdLst>
                <a:gd name="textAreaLeft" fmla="*/ 0 w 1652760"/>
                <a:gd name="textAreaRight" fmla="*/ 1653120 w 1652760"/>
                <a:gd name="textAreaTop" fmla="*/ 0 h 1438200"/>
                <a:gd name="textAreaBottom" fmla="*/ 1438560 h 1438200"/>
              </a:gdLst>
              <a:ahLst/>
              <a:rect l="textAreaLeft" t="textAreaTop" r="textAreaRight" b="textAreaBottom"/>
              <a:pathLst>
                <a:path w="1041" h="906">
                  <a:moveTo>
                    <a:pt x="24" y="906"/>
                  </a:moveTo>
                  <a:lnTo>
                    <a:pt x="1041" y="3"/>
                  </a:lnTo>
                  <a:lnTo>
                    <a:pt x="1034" y="0"/>
                  </a:lnTo>
                  <a:lnTo>
                    <a:pt x="0" y="903"/>
                  </a:lnTo>
                  <a:lnTo>
                    <a:pt x="24" y="9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4"/>
            <p:cNvSpPr/>
            <p:nvPr/>
          </p:nvSpPr>
          <p:spPr>
            <a:xfrm>
              <a:off x="5823000" y="5653080"/>
              <a:ext cx="1441440" cy="125244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908" h="789">
                  <a:moveTo>
                    <a:pt x="22" y="786"/>
                  </a:moveTo>
                  <a:lnTo>
                    <a:pt x="908" y="3"/>
                  </a:lnTo>
                  <a:lnTo>
                    <a:pt x="901" y="0"/>
                  </a:lnTo>
                  <a:lnTo>
                    <a:pt x="0" y="789"/>
                  </a:lnTo>
                  <a:lnTo>
                    <a:pt x="22" y="78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4770360" y="4822920"/>
              <a:ext cx="2373480" cy="2081160"/>
            </a:xfrm>
            <a:custGeom>
              <a:avLst/>
              <a:gdLst>
                <a:gd name="textAreaLeft" fmla="*/ 0 w 2373480"/>
                <a:gd name="textAreaRight" fmla="*/ 2373840 w 2373480"/>
                <a:gd name="textAreaTop" fmla="*/ 0 h 2081160"/>
                <a:gd name="textAreaBottom" fmla="*/ 2081520 h 2081160"/>
              </a:gdLst>
              <a:ahLst/>
              <a:rect l="textAreaLeft" t="textAreaTop" r="textAreaRight" b="textAreaBottom"/>
              <a:pathLst>
                <a:path w="1495" h="1311">
                  <a:moveTo>
                    <a:pt x="30" y="1306"/>
                  </a:moveTo>
                  <a:lnTo>
                    <a:pt x="1495" y="3"/>
                  </a:lnTo>
                  <a:lnTo>
                    <a:pt x="1488" y="0"/>
                  </a:lnTo>
                  <a:lnTo>
                    <a:pt x="0" y="1311"/>
                  </a:lnTo>
                  <a:lnTo>
                    <a:pt x="30" y="1306"/>
                  </a:lnTo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36"/>
          <p:cNvSpPr/>
          <p:nvPr/>
        </p:nvSpPr>
        <p:spPr>
          <a:xfrm>
            <a:off x="1692360" y="3645000"/>
            <a:ext cx="7451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7"/>
          <p:cNvSpPr/>
          <p:nvPr/>
        </p:nvSpPr>
        <p:spPr>
          <a:xfrm flipH="1">
            <a:off x="1763280" y="3645000"/>
            <a:ext cx="738036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8"/>
          <p:cNvSpPr/>
          <p:nvPr/>
        </p:nvSpPr>
        <p:spPr>
          <a:xfrm>
            <a:off x="4859280" y="645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68360" y="652464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73e6f"/>
                </a:solidFill>
                <a:latin typeface="Arial"/>
              </a:rPr>
              <a:t>© The Association of Independent Schools of N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0"/>
          <p:cNvSpPr/>
          <p:nvPr/>
        </p:nvSpPr>
        <p:spPr>
          <a:xfrm>
            <a:off x="1763640" y="371628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655640" y="3711600"/>
            <a:ext cx="45720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me Su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b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vel 4, 99 York Street, Sydney NSW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ne (02) 9299 2845  Fax (02) 9290 22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b aisnsw.edu.au  Email ais@aisnsw.edu.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N 96 003 509 0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1619280" y="306864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ontac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8076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533520" y="1267920"/>
            <a:ext cx="8076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312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anguages in Primary</a:t>
            </a:r>
            <a:endParaRPr b="1" lang="en-US" sz="34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763640" y="3692520"/>
            <a:ext cx="691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y 6th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ounded Rectangle 3"/>
          <p:cNvSpPr/>
          <p:nvPr/>
        </p:nvSpPr>
        <p:spPr>
          <a:xfrm>
            <a:off x="1332000" y="1341360"/>
            <a:ext cx="7272360" cy="4391280"/>
          </a:xfrm>
          <a:prstGeom prst="roundRect">
            <a:avLst>
              <a:gd name="adj" fmla="val 16667"/>
            </a:avLst>
          </a:prstGeom>
          <a:solidFill>
            <a:srgbClr val="8ba4d5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Comic Sans MS"/>
              </a:rPr>
              <a:t>Aims of today…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187280" y="1699920"/>
            <a:ext cx="7491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To extend your repertoire of teach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To extend your professional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val 4"/>
          <p:cNvSpPr/>
          <p:nvPr/>
        </p:nvSpPr>
        <p:spPr>
          <a:xfrm>
            <a:off x="1908000" y="2637000"/>
            <a:ext cx="6264360" cy="2376360"/>
          </a:xfrm>
          <a:prstGeom prst="ellipse">
            <a:avLst/>
          </a:prstGeom>
          <a:solidFill>
            <a:srgbClr val="8ba4d5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Arial"/>
              </a:rPr>
              <a:t>Today will be….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187280" y="1557360"/>
            <a:ext cx="7491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 day of sharing of ideas focussing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Effective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Successful classroom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488360" cy="90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273e6f"/>
                </a:solidFill>
                <a:latin typeface="Comic Sans MS"/>
              </a:rPr>
              <a:t>The AIS places the highest priority on the safety of its staff and visitors.</a:t>
            </a:r>
            <a:endParaRPr b="1" lang="en-US" sz="26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618920" y="3357360"/>
            <a:ext cx="6769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5c94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c9458"/>
                </a:solidFill>
                <a:latin typeface="Comic Sans MS"/>
              </a:rPr>
              <a:t>‘</a:t>
            </a:r>
            <a:r>
              <a:rPr b="0" lang="en-AU" sz="2400" spc="-1" strike="noStrike">
                <a:solidFill>
                  <a:srgbClr val="5c9458"/>
                </a:solidFill>
                <a:latin typeface="Comic Sans MS"/>
              </a:rPr>
              <a:t>Beep, beep’ tone alerts wardens and occu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5c94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c9458"/>
                </a:solidFill>
                <a:latin typeface="Comic Sans MS"/>
              </a:rPr>
              <a:t>‘</a:t>
            </a:r>
            <a:r>
              <a:rPr b="0" lang="en-AU" sz="2400" spc="-1" strike="noStrike">
                <a:solidFill>
                  <a:srgbClr val="5c9458"/>
                </a:solidFill>
                <a:latin typeface="Comic Sans MS"/>
              </a:rPr>
              <a:t>Whoop, whoop’ tone signals evac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403280" y="1484280"/>
            <a:ext cx="756144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e326a"/>
                </a:solidFill>
                <a:latin typeface="Comic Sans MS"/>
              </a:rPr>
              <a:t>Should you require first aid assistance, please do not hesitate to ask 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e326a"/>
                </a:solidFill>
                <a:latin typeface="Comic Sans MS"/>
              </a:rPr>
              <a:t>In the event of a building evacuation being required the following procedure appl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332000" y="5157720"/>
            <a:ext cx="75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1e326a"/>
                </a:solidFill>
                <a:latin typeface="Comic Sans MS"/>
              </a:rPr>
              <a:t>I will now explain the route to the nearest fire exit and if evacuation is required I will be your guide to the assembly a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332000" y="2165400"/>
            <a:ext cx="78120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Login: </a:t>
            </a:r>
            <a:r>
              <a:rPr b="1" lang="en-AU" sz="2800" spc="-1" strike="noStrike">
                <a:solidFill>
                  <a:srgbClr val="17365d"/>
                </a:solidFill>
                <a:latin typeface="Comic Sans MS"/>
                <a:ea typeface="Calibri"/>
              </a:rPr>
              <a:t>AISGuestw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Password: </a:t>
            </a:r>
            <a:r>
              <a:rPr b="1" lang="en-AU" sz="2800" spc="-1" strike="noStrike">
                <a:solidFill>
                  <a:srgbClr val="17365d"/>
                </a:solidFill>
                <a:latin typeface="Comic Sans MS"/>
                <a:ea typeface="Calibri"/>
              </a:rPr>
              <a:t>jakom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Open browser, input details and select NO when prompted to save password. LOG OFF when fini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Comic Sans MS"/>
              </a:rPr>
              <a:t>Wireless connection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8920" y="223560"/>
            <a:ext cx="7416720" cy="54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3e6f"/>
                </a:solidFill>
                <a:latin typeface="Arial"/>
              </a:rPr>
              <a:t>Online Certificates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02920" y="1052640"/>
            <a:ext cx="7489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Certificates for all AIS courses/conferences/events are now available online and will no longer be provided in hard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ttending your course/conference/event ple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g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your account on the AIS website www.aisnsw.edu.a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My Profile&gt;My Courses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d you will be able to download your personal certificate as acknowledgement of your atte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lease allow a week for your attendance to be confirmed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d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838080" y="685800"/>
            <a:ext cx="7925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223560"/>
            <a:ext cx="7416720" cy="54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73e6f"/>
                </a:solidFill>
                <a:latin typeface="Arial"/>
              </a:rPr>
              <a:t>Online Certificates</a:t>
            </a:r>
            <a:endParaRPr b="1" lang="en-US" sz="26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838080" y="685800"/>
            <a:ext cx="7925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cid:image001.png@01CE4262.ACA86B70"/>
          <p:cNvPicPr/>
          <p:nvPr/>
        </p:nvPicPr>
        <p:blipFill>
          <a:blip r:embed="rId1"/>
          <a:srcRect l="0" t="35787" r="0" b="0"/>
          <a:stretch/>
        </p:blipFill>
        <p:spPr>
          <a:xfrm>
            <a:off x="1403280" y="981000"/>
            <a:ext cx="7416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Comic Sans MS"/>
              </a:rPr>
              <a:t>Languages update!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187280" y="1267920"/>
            <a:ext cx="7491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Australian Curriculum- Where are we up 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(according to ACA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Italian and Chinese curriculum currently being rev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Other languages to be open for consultation May-Jul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Revised curriculum for all languages will be presented to the ACARA Board in December and then to Ministers for approval for publi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Implementation – 2014  (This decision rests with B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86920" y="-296640"/>
            <a:ext cx="7488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187280" y="188640"/>
            <a:ext cx="7491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. Upcoming Professional Learning opportun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Tablets in Languages (K-6) – 14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May,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Indonesian Teachers’ Conference – 17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May, University of 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Une journée pas comme les autres – 27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May, 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FMLTA conference – 5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- 8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 July 2013, Canb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86920" y="-250560"/>
            <a:ext cx="7488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187280" y="549360"/>
            <a:ext cx="7491600" cy="60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Professional learning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Tablets in Languages (7-12) – 29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July,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Japanese: A Priority Language – 12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August,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Endeavour Language Teaching Fellowships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Useful 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Languages (A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http://www.mltansw.asn.au/ (MLTANS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86920" y="223920"/>
            <a:ext cx="748836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73e6f"/>
                </a:solidFill>
                <a:latin typeface="Comic Sans MS"/>
              </a:rPr>
              <a:t>Promoting Languages in Primary - MLTA</a:t>
            </a:r>
            <a:endParaRPr b="1" lang="en-US" sz="2800" spc="-1" strike="noStrike">
              <a:solidFill>
                <a:srgbClr val="273e6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187280" y="1125360"/>
            <a:ext cx="7491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MLTA Linguafest – Stag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Other student initi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Professional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- TeachM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- Subsidising P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- Other targeted P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21:22:54Z</dcterms:created>
  <dc:creator>Administrator</dc:creator>
  <dc:description/>
  <dc:language>en-US</dc:language>
  <cp:lastModifiedBy>Merryl</cp:lastModifiedBy>
  <dcterms:modified xsi:type="dcterms:W3CDTF">2013-05-01T04:29:28Z</dcterms:modified>
  <cp:revision>163</cp:revision>
  <dc:subject/>
  <dc:title>Slide 1</dc:title>
</cp:coreProperties>
</file>